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227.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23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7.xml" ContentType="application/vnd.openxmlformats-officedocument.presentationml.slideLayout+xml"/>
  <Override PartName="/ppt/slideLayouts/slideLayout12.xml" ContentType="application/vnd.openxmlformats-officedocument.presentationml.slideLayout+xml"/>
  <Override PartName="/ppt/slideLayouts/slideLayout178.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8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79.xml" ContentType="application/vnd.openxmlformats-officedocument.presentationml.slideLayout+xml"/>
  <Override PartName="/ppt/slideLayouts/slideLayout553.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55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503.xml" ContentType="application/vnd.openxmlformats-officedocument.presentationml.slideLayout+xml"/>
  <Override PartName="/ppt/slideLayouts/slideLayout555.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215.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216.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52.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02.xml" ContentType="application/vnd.openxmlformats-officedocument.presentationml.slideLayout+xml"/>
  <Override PartName="/ppt/slideLayouts/slideLayout185.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01.xml" ContentType="application/vnd.openxmlformats-officedocument.presentationml.slideLayout+xml"/>
  <Override PartName="/ppt/slideLayouts/slideLayout184.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206.xml" ContentType="application/vnd.openxmlformats-officedocument.presentationml.slideLayout+xml"/>
  <Override PartName="/ppt/slideLayouts/slideLayout545.xml" ContentType="application/vnd.openxmlformats-officedocument.presentationml.slideLayout+xml"/>
  <Override PartName="/ppt/slideLayouts/slideLayout205.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24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283.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434.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1.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204.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69.xml.rels" ContentType="application/vnd.openxmlformats-package.relationships+xml"/>
  <Override PartName="/ppt/slideLayouts/_rels/slideLayout143.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445.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313.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55.xml.rels" ContentType="application/vnd.openxmlformats-package.relationships+xml"/>
  <Override PartName="/ppt/slideLayouts/_rels/slideLayout147.xml.rels" ContentType="application/vnd.openxmlformats-package.relationships+xml"/>
  <Override PartName="/ppt/slideLayouts/_rels/slideLayout259.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4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549.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47.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3.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1.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43.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56.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4.xml.rels" ContentType="application/vnd.openxmlformats-package.relationships+xml"/>
  <Override PartName="/ppt/slideLayouts/_rels/slideLayout285.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0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230.xml.rels" ContentType="application/vnd.openxmlformats-package.relationships+xml"/>
  <Override PartName="/ppt/slideLayouts/_rels/slideLayout22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3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77.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159.xml.rels" ContentType="application/vnd.openxmlformats-package.relationships+xml"/>
  <Override PartName="/ppt/slideLayouts/_rels/slideLayout55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16.png" ContentType="image/png"/>
  <Override PartName="/ppt/media/image14.jpeg" ContentType="image/jpeg"/>
  <Override PartName="/ppt/media/image1.wmf" ContentType="image/x-wmf"/>
  <Override PartName="/ppt/media/image2.wmf" ContentType="image/x-wmf"/>
  <Override PartName="/ppt/media/image5.jpeg" ContentType="image/jpeg"/>
  <Override PartName="/ppt/media/image15.png" ContentType="image/png"/>
  <Override PartName="/ppt/media/image3.jpeg" ContentType="image/jpeg"/>
  <Override PartName="/ppt/media/image4.jpeg" ContentType="image/jpeg"/>
  <Override PartName="/ppt/media/image9.jpeg" ContentType="image/jpeg"/>
  <Override PartName="/ppt/media/image11.jpeg" ContentType="image/jpeg"/>
  <Override PartName="/ppt/media/image13.png" ContentType="image/pn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Lst>
  <p:notesMasterIdLst>
    <p:notesMasterId r:id="rId49"/>
  </p:notes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notesMaster" Target="notesMasters/notesMaster1.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65" name="PlaceHolder 2"/>
          <p:cNvSpPr>
            <a:spLocks noGrp="1"/>
          </p:cNvSpPr>
          <p:nvPr>
            <p:ph type="dt" idx="12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9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68" name="PlaceHolder 5"/>
          <p:cNvSpPr>
            <a:spLocks noGrp="1"/>
          </p:cNvSpPr>
          <p:nvPr>
            <p:ph type="ftr" idx="12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69" name="PlaceHolder 6"/>
          <p:cNvSpPr>
            <a:spLocks noGrp="1"/>
          </p:cNvSpPr>
          <p:nvPr>
            <p:ph type="sldNum" idx="12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A098-1045-4C32-BA85-77DDD2138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PlaceHolder 1"/>
          <p:cNvSpPr>
            <a:spLocks noGrp="1"/>
          </p:cNvSpPr>
          <p:nvPr>
            <p:ph type="sldImg"/>
          </p:nvPr>
        </p:nvSpPr>
        <p:spPr>
          <a:xfrm>
            <a:off x="1143000" y="685800"/>
            <a:ext cx="4572000" cy="3429000"/>
          </a:xfrm>
          <a:prstGeom prst="rect">
            <a:avLst/>
          </a:prstGeom>
          <a:ln w="0">
            <a:noFill/>
          </a:ln>
        </p:spPr>
      </p:sp>
      <p:sp>
        <p:nvSpPr>
          <p:cNvPr id="2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BC30-A822-4370-ACBB-962398DE1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type="sldImg"/>
          </p:nvPr>
        </p:nvSpPr>
        <p:spPr>
          <a:xfrm>
            <a:off x="1143000" y="685800"/>
            <a:ext cx="4572000" cy="3429000"/>
          </a:xfrm>
          <a:prstGeom prst="rect">
            <a:avLst/>
          </a:prstGeom>
          <a:ln w="0">
            <a:noFill/>
          </a:ln>
        </p:spPr>
      </p:sp>
      <p:sp>
        <p:nvSpPr>
          <p:cNvPr id="20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ches vary in the amount of content preparation and the amount of practice you do ahead of time. The three most common delivery methods are impromptu, scripted, and extemporaneous.</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situations that will require you to speak using the impromptu method include employment and performance review interviews, remarks at business meetings, and statements to the media. In each situation, having practiced organizing ideas quickly and conveying them both intelligibly and expressively will bolster your ethos and help you succeed.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time and skill required to effectively prepare and deliver a scripted speech, they are usually reserved for important occasions that have important consequences. Political speeches, keynote addresses at conventions, commencement addresses, and CEO remarks at annual stockholder meetings are examples of occasions when a scripted speech might be appropriat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mporaneous speeches are the easiest to give effectively. When speaking extemporaneously, you are able to prepare your thoughts ahead of time and to have notes to prompt you. Yet unlike scripted speeches, extemporaneous speeches do not require as lengthy a preparation and practice process to be effective. </a:t>
            </a:r>
            <a:endParaRPr b="0" lang="en-US" sz="1200" spc="-1" strike="noStrike">
              <a:solidFill>
                <a:srgbClr val="000000"/>
              </a:solidFill>
              <a:latin typeface="Arial"/>
            </a:endParaRPr>
          </a:p>
        </p:txBody>
      </p:sp>
      <p:sp>
        <p:nvSpPr>
          <p:cNvPr id="20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BFC8-2EB7-43B5-8549-E9E66C6F8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PlaceHolder 1"/>
          <p:cNvSpPr>
            <a:spLocks noGrp="1"/>
          </p:cNvSpPr>
          <p:nvPr>
            <p:ph type="sldImg"/>
          </p:nvPr>
        </p:nvSpPr>
        <p:spPr>
          <a:xfrm>
            <a:off x="1143000" y="685800"/>
            <a:ext cx="457200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peakers should practice their speeches out loud. Rehearsal gives you time to revise, evaluate, and mull over all aspects of the speech. Inexperienced speakers often believe they are ready to present the speech once they have finished their outlin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ry to complete the outline at least three days before you are scheduled to present it to give yourself sufficient time to practice, revise, evaluate, and practice your speech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BD60-7F0E-4866-83DD-D9FFF0796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6F1CE-393C-4D1D-A1FF-5D7C82AD4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6" name="PlaceHolder 1"/>
          <p:cNvSpPr>
            <a:spLocks noGrp="1"/>
          </p:cNvSpPr>
          <p:nvPr>
            <p:ph type="sldImg"/>
          </p:nvPr>
        </p:nvSpPr>
        <p:spPr>
          <a:xfrm>
            <a:off x="1143000" y="685800"/>
            <a:ext cx="4572000" cy="3429000"/>
          </a:xfrm>
          <a:prstGeom prst="rect">
            <a:avLst/>
          </a:prstGeom>
          <a:ln w="0">
            <a:noFill/>
          </a:ln>
        </p:spPr>
      </p:sp>
      <p:sp>
        <p:nvSpPr>
          <p:cNvPr id="2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1.3 provides a useful timetable for preparing and practicing your spee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type="sldImg"/>
          </p:nvPr>
        </p:nvSpPr>
        <p:spPr>
          <a:xfrm>
            <a:off x="1143000" y="685800"/>
            <a:ext cx="457200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velop your notes, begin by reducing your speech outline to an abbreviated outline of key phrases and words. Then, if there are details you must cite exactly—such as a specific example, quotation, or set of statistics—add these in the appropriate place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speaking notes not only provides you with prompts when you are speaking, but it also helps in two other ways. First, the act of compiling the speaking notes helps to cement the flow of the speech’s ideas in your mind. Second, as you prepare your notes, think about key ideas and phrasings. Notes don’t include all the development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5D6B-5E0B-407D-ADDB-0C319403B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9106-3F97-4FC1-9C88-AFEBE9687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2" name="PlaceHolder 1"/>
          <p:cNvSpPr>
            <a:spLocks noGrp="1"/>
          </p:cNvSpPr>
          <p:nvPr>
            <p:ph type="sldImg"/>
          </p:nvPr>
        </p:nvSpPr>
        <p:spPr>
          <a:xfrm>
            <a:off x="1143000" y="685800"/>
            <a:ext cx="4572000" cy="3429000"/>
          </a:xfrm>
          <a:prstGeom prst="rect">
            <a:avLst/>
          </a:prstGeom>
          <a:ln w="0">
            <a:noFill/>
          </a:ln>
        </p:spPr>
      </p:sp>
      <p:sp>
        <p:nvSpPr>
          <p:cNvPr id="2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hibit shows a speaker’s notes for her complete outlin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three- to five-minute speech, you will need no more than three 3x5-inch note cards to record your speaking notes. For longer speeches, you might need one card for the introduction, one for each main point, and one for the concl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4" name="PlaceHolder 1"/>
          <p:cNvSpPr>
            <a:spLocks noGrp="1"/>
          </p:cNvSpPr>
          <p:nvPr>
            <p:ph type="sldImg"/>
          </p:nvPr>
        </p:nvSpPr>
        <p:spPr>
          <a:xfrm>
            <a:off x="1143000" y="685800"/>
            <a:ext cx="4572000" cy="3429000"/>
          </a:xfrm>
          <a:prstGeom prst="rect">
            <a:avLst/>
          </a:prstGeom>
          <a:ln w="0">
            <a:noFill/>
          </a:ln>
        </p:spPr>
      </p:sp>
      <p:sp>
        <p:nvSpPr>
          <p:cNvPr id="2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peaking notes should indicate exactly where you will reveal and conceal each presentational aid. Practice sharing each aid only when you are talking about it; conceal it when it is no longer needed.</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ossible, practice your speech in the space where you will give your speech, so that you can ensure that everyone can see your aids. If this isn’t possible, arrive early enough on speech day so you can practice quickly.</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keep your focus on the audience, not on your presentational aid. Also, avoid passing around objects in the audience, as this will take their focus off of you and your messag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6F777-AB2F-4DE7-B7D6-BB1B3487C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PlaceHolder 1"/>
          <p:cNvSpPr>
            <a:spLocks noGrp="1"/>
          </p:cNvSpPr>
          <p:nvPr>
            <p:ph type="sldImg"/>
          </p:nvPr>
        </p:nvSpPr>
        <p:spPr>
          <a:xfrm>
            <a:off x="1143000" y="685800"/>
            <a:ext cx="4572000" cy="3429000"/>
          </a:xfrm>
          <a:prstGeom prst="rect">
            <a:avLst/>
          </a:prstGeom>
          <a:ln w="0">
            <a:noFill/>
          </a:ln>
        </p:spPr>
      </p:sp>
      <p:sp>
        <p:nvSpPr>
          <p:cNvPr id="2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peaking notes should indicate exactly where you will reveal and conceal each presentational aid. Practice sharing each aid only when you are talking about it; conceal it when it is no longer needed.</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ossible, practice your speech in the space where you will give your speech, so that you can ensure that everyone can see your aids. If this isn’t possible, arrive early enough on speech day so you can practice quickly.</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keep your focus on the audience, not on your presentational aid. Also, avoid passing around objects in the audience, as this will take their focus off of you and your messag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B72E-44D7-4B8C-9641-0FAE780BC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PlaceHolder 1"/>
          <p:cNvSpPr>
            <a:spLocks noGrp="1"/>
          </p:cNvSpPr>
          <p:nvPr>
            <p:ph type="sldImg"/>
          </p:nvPr>
        </p:nvSpPr>
        <p:spPr>
          <a:xfrm>
            <a:off x="1143000" y="685800"/>
            <a:ext cx="457200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practice sessions, you have three goals: (1) Practice language choices so they are appropriate, accurate, clear, and vivid. (2) Practice your speech aloud until your voice and body convey your ideas conversationally, intelligibly, and expressively. (3) Practice using presentational aid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each practice, you will want to analyze how well it went and set goals for the next practice session.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89AB-CB27-48E6-806E-277B39CB6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PlaceHolder 1"/>
          <p:cNvSpPr>
            <a:spLocks noGrp="1"/>
          </p:cNvSpPr>
          <p:nvPr>
            <p:ph type="sldImg"/>
          </p:nvPr>
        </p:nvSpPr>
        <p:spPr>
          <a:xfrm>
            <a:off x="1143000" y="685800"/>
            <a:ext cx="4572000" cy="3429000"/>
          </a:xfrm>
          <a:prstGeom prst="rect">
            <a:avLst/>
          </a:prstGeom>
          <a:ln w="0">
            <a:noFill/>
          </a:ln>
        </p:spPr>
      </p:sp>
      <p:sp>
        <p:nvSpPr>
          <p:cNvPr id="2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practice sessions, you have three goals: (1) Practice language choices so they are appropriate, accurate, clear, and vivid. (2) Practice your speech aloud until your voice and body convey your ideas conversationally, intelligibly, and expressively. (3) Practice using presentational aid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each practice, you will want to analyze how well it went and set goals for the next practice s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1E21-0CE2-47E5-9453-AC578CF10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PlaceHolder 1"/>
          <p:cNvSpPr>
            <a:spLocks noGrp="1"/>
          </p:cNvSpPr>
          <p:nvPr>
            <p:ph type="sldImg"/>
          </p:nvPr>
        </p:nvSpPr>
        <p:spPr>
          <a:xfrm>
            <a:off x="1143000" y="685800"/>
            <a:ext cx="457200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yourself the following questions after your first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d you leave out any key ide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d you talk too long on any one point and not long enough on anoth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d you clarify each of your poi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d you adapt to your anticipated audience? (If you had a friend or relative listen to your practices, have him or her help with your analys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re your note cards effectiv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ell did you do with your presentational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ED622-F88A-42E5-8AE0-8AD8A8599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sldImg"/>
          </p:nvPr>
        </p:nvSpPr>
        <p:spPr>
          <a:xfrm>
            <a:off x="1143000" y="685800"/>
            <a:ext cx="457200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677CE-70DB-4788-8612-4EC90F28E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PlaceHolder 1"/>
          <p:cNvSpPr>
            <a:spLocks noGrp="1"/>
          </p:cNvSpPr>
          <p:nvPr>
            <p:ph type="sldImg"/>
          </p:nvPr>
        </p:nvSpPr>
        <p:spPr>
          <a:xfrm>
            <a:off x="1143000" y="685800"/>
            <a:ext cx="4572000" cy="3429000"/>
          </a:xfrm>
          <a:prstGeom prst="rect">
            <a:avLst/>
          </a:prstGeom>
          <a:ln w="0">
            <a:noFill/>
          </a:ln>
        </p:spPr>
      </p:sp>
      <p:sp>
        <p:nvSpPr>
          <p:cNvPr id="20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be prepared to adapt to your audience and possibly change course a bit as you give your speech. Remember that your primary goal as a public speaker is to generate shared understanding with your listeners, so pay attention to the audience’s feedback as you speak and adjust according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3801-4D52-453A-BCF3-D5D39A461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PlaceHolder 1"/>
          <p:cNvSpPr>
            <a:spLocks noGrp="1"/>
          </p:cNvSpPr>
          <p:nvPr>
            <p:ph type="sldImg"/>
          </p:nvPr>
        </p:nvSpPr>
        <p:spPr>
          <a:xfrm>
            <a:off x="1143000" y="685800"/>
            <a:ext cx="457200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be prepared to adapt to your audience and possibly change course a bit as you give your speech. Remember that your primary goal as a public speaker is to generate shared understanding with your listeners, so pay attention to the audience’s feedback as you speak and adjust accordingly.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A286-9856-40D4-BC7C-EF8E80B14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5" name="PlaceHolder 1"/>
          <p:cNvSpPr>
            <a:spLocks noGrp="1"/>
          </p:cNvSpPr>
          <p:nvPr>
            <p:ph type="sldImg"/>
          </p:nvPr>
        </p:nvSpPr>
        <p:spPr>
          <a:xfrm>
            <a:off x="1143000" y="685800"/>
            <a:ext cx="4572000" cy="3429000"/>
          </a:xfrm>
          <a:prstGeom prst="rect">
            <a:avLst/>
          </a:prstGeom>
          <a:ln w="0">
            <a:noFill/>
          </a:ln>
        </p:spPr>
      </p:sp>
      <p:sp>
        <p:nvSpPr>
          <p:cNvPr id="2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e are only beginning to discover the ways in which to should do so, here are few guidelines to consider when adapting your speeches for virtual audiences.</a:t>
            </a:r>
            <a:endParaRPr b="0" lang="en-US" sz="1200" spc="-1" strike="noStrike">
              <a:solidFill>
                <a:srgbClr val="000000"/>
              </a:solidFill>
              <a:latin typeface="Arial"/>
            </a:endParaRPr>
          </a:p>
        </p:txBody>
      </p:sp>
      <p:sp>
        <p:nvSpPr>
          <p:cNvPr id="2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A28E-CF22-43B0-B360-39D653B8D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1143000" y="685800"/>
            <a:ext cx="4572000" cy="3429000"/>
          </a:xfrm>
          <a:prstGeom prst="rect">
            <a:avLst/>
          </a:prstGeom>
          <a:ln w="0">
            <a:noFill/>
          </a:ln>
        </p:spPr>
      </p:sp>
      <p:sp>
        <p:nvSpPr>
          <p:cNvPr id="20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delivery is both conversational and animated. A conversational style allows each member of your audience to feel as if you are talking with him or her rather than speaking at the group. When your delivery is animated or lively, you create excitement about what you are saying so it is easier for your audience to pay attention. Your speech content is conveyed through language. Your delivery style, however, is conveyed through your nonverbal behaviors.</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verbal elements of communication include your use of voice (e.g., pitch, volume, rate, quality, articulation, pronunciation, and pauses) and use of body (e.g., facial expressions, eye contact, gestures, body language, and even appear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1681-B3F8-49FB-8F65-E418E7CBE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sldImg"/>
          </p:nvPr>
        </p:nvSpPr>
        <p:spPr>
          <a:xfrm>
            <a:off x="1143000" y="685800"/>
            <a:ext cx="457200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ity is the ability to sound natural as you speak—as though you are really thinking about the ideas </a:t>
            </a:r>
            <a:r>
              <a:rPr b="0" i="1" lang="en-US" sz="1200" spc="-1" strike="noStrike">
                <a:solidFill>
                  <a:srgbClr val="000000"/>
                </a:solidFill>
                <a:latin typeface="Arial"/>
              </a:rPr>
              <a:t>and</a:t>
            </a:r>
            <a:r>
              <a:rPr b="0" lang="en-US" sz="1200" spc="-1" strike="noStrike">
                <a:solidFill>
                  <a:srgbClr val="000000"/>
                </a:solidFill>
                <a:latin typeface="Arial"/>
              </a:rPr>
              <a:t> getting them across to the audience as you speak. The secret to developing a conversational style is to learn the </a:t>
            </a:r>
            <a:r>
              <a:rPr b="0" i="1" lang="en-US" sz="1200" spc="-1" strike="noStrike">
                <a:solidFill>
                  <a:srgbClr val="000000"/>
                </a:solidFill>
                <a:latin typeface="Arial"/>
              </a:rPr>
              <a:t>ideas</a:t>
            </a:r>
            <a:r>
              <a:rPr b="0" lang="en-US" sz="1200" spc="-1" strike="noStrike">
                <a:solidFill>
                  <a:srgbClr val="000000"/>
                </a:solidFill>
                <a:latin typeface="Arial"/>
              </a:rPr>
              <a:t> of your speech rather than trying to memorize every </a:t>
            </a:r>
            <a:r>
              <a:rPr b="0" i="1" lang="en-US" sz="1200" spc="-1" strike="noStrike">
                <a:solidFill>
                  <a:srgbClr val="000000"/>
                </a:solidFill>
                <a:latin typeface="Arial"/>
              </a:rPr>
              <a:t>word</a:t>
            </a:r>
            <a:r>
              <a:rPr b="0" lang="en-US" sz="1200" spc="-1" strike="noStrike">
                <a:solidFill>
                  <a:srgbClr val="000000"/>
                </a:solidFill>
                <a:latin typeface="Arial"/>
              </a:rPr>
              <a: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be conversational and animated at the same time by focusing on conveying the passion you feel about your topic through your voice and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CE279-E117-40C7-9C60-017A84481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1143000" y="685800"/>
            <a:ext cx="4572000" cy="3429000"/>
          </a:xfrm>
          <a:prstGeom prst="rect">
            <a:avLst/>
          </a:prstGeom>
          <a:ln w="0">
            <a:noFill/>
          </a:ln>
        </p:spPr>
      </p:sp>
      <p:sp>
        <p:nvSpPr>
          <p:cNvPr id="2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itch</a:t>
            </a:r>
            <a:r>
              <a:rPr b="0" lang="en-US" sz="1200" spc="-1" strike="noStrike">
                <a:solidFill>
                  <a:srgbClr val="000000"/>
                </a:solidFill>
                <a:latin typeface="Arial"/>
              </a:rPr>
              <a:t> is the highness or lowness of the sounds produced in your larynx by the size and vibration of your vocal cords. </a:t>
            </a:r>
            <a:r>
              <a:rPr b="0" i="1" lang="en-US" sz="1200" spc="-1" strike="noStrike">
                <a:solidFill>
                  <a:srgbClr val="000000"/>
                </a:solidFill>
                <a:latin typeface="Arial"/>
              </a:rPr>
              <a:t>Volume</a:t>
            </a:r>
            <a:r>
              <a:rPr b="0" lang="en-US" sz="1200" spc="-1" strike="noStrike">
                <a:solidFill>
                  <a:srgbClr val="000000"/>
                </a:solidFill>
                <a:latin typeface="Arial"/>
              </a:rPr>
              <a:t> is how loudly or softly you speak. </a:t>
            </a:r>
            <a:r>
              <a:rPr b="0" i="1" lang="en-US" sz="1200" spc="-1" strike="noStrike">
                <a:solidFill>
                  <a:srgbClr val="000000"/>
                </a:solidFill>
                <a:latin typeface="Arial"/>
              </a:rPr>
              <a:t>Rate</a:t>
            </a:r>
            <a:r>
              <a:rPr b="0" lang="en-US" sz="1200" spc="-1" strike="noStrike">
                <a:solidFill>
                  <a:srgbClr val="000000"/>
                </a:solidFill>
                <a:latin typeface="Arial"/>
              </a:rPr>
              <a:t> is the speed at which you talk. </a:t>
            </a:r>
            <a:r>
              <a:rPr b="0" i="1" lang="en-US" sz="1200" spc="-1" strike="noStrike">
                <a:solidFill>
                  <a:srgbClr val="000000"/>
                </a:solidFill>
                <a:latin typeface="Arial"/>
              </a:rPr>
              <a:t>Quality</a:t>
            </a:r>
            <a:r>
              <a:rPr b="0" lang="en-US" sz="1200" spc="-1" strike="noStrike">
                <a:solidFill>
                  <a:srgbClr val="000000"/>
                </a:solidFill>
                <a:latin typeface="Arial"/>
              </a:rPr>
              <a:t> is the tone or timbre of your voice and what distinguishes it from the voices of others.</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a:t>
            </a:r>
            <a:r>
              <a:rPr b="0" i="1" lang="en-US" sz="1200" spc="-1" strike="noStrike">
                <a:solidFill>
                  <a:srgbClr val="000000"/>
                </a:solidFill>
                <a:latin typeface="Arial"/>
              </a:rPr>
              <a:t>intelligible</a:t>
            </a:r>
            <a:r>
              <a:rPr b="0" lang="en-US" sz="1200" spc="-1" strike="noStrike">
                <a:solidFill>
                  <a:srgbClr val="000000"/>
                </a:solidFill>
                <a:latin typeface="Arial"/>
              </a:rPr>
              <a:t> means to be understandable. Appropriate volume is the key to intelligibility. The rate at which you speak can also impact how intelligible your message is. In addition, </a:t>
            </a:r>
            <a:r>
              <a:rPr b="0" i="1" lang="en-US" sz="1200" spc="-1" strike="noStrike">
                <a:solidFill>
                  <a:srgbClr val="000000"/>
                </a:solidFill>
                <a:latin typeface="Arial"/>
              </a:rPr>
              <a:t>articulation</a:t>
            </a:r>
            <a:r>
              <a:rPr b="0" lang="en-US" sz="1200" spc="-1" strike="noStrike">
                <a:solidFill>
                  <a:srgbClr val="000000"/>
                </a:solidFill>
                <a:latin typeface="Arial"/>
              </a:rPr>
              <a:t> (using the tongue, palate, teeth, jaw movement, and lips to shape vocalized sounds), </a:t>
            </a:r>
            <a:r>
              <a:rPr b="0" i="1" lang="en-US" sz="1200" spc="-1" strike="noStrike">
                <a:solidFill>
                  <a:srgbClr val="000000"/>
                </a:solidFill>
                <a:latin typeface="Arial"/>
              </a:rPr>
              <a:t>pronunciation</a:t>
            </a:r>
            <a:r>
              <a:rPr b="0" lang="en-US" sz="1200" spc="-1" strike="noStrike">
                <a:solidFill>
                  <a:srgbClr val="000000"/>
                </a:solidFill>
                <a:latin typeface="Arial"/>
              </a:rPr>
              <a:t>, and problems with </a:t>
            </a:r>
            <a:r>
              <a:rPr b="0" i="1" lang="en-US" sz="1200" spc="-1" strike="noStrike">
                <a:solidFill>
                  <a:srgbClr val="000000"/>
                </a:solidFill>
                <a:latin typeface="Arial"/>
              </a:rPr>
              <a:t>accent (</a:t>
            </a:r>
            <a:r>
              <a:rPr b="0" lang="en-US" sz="1200" spc="-1" strike="noStrike">
                <a:solidFill>
                  <a:srgbClr val="000000"/>
                </a:solidFill>
                <a:latin typeface="Arial"/>
              </a:rPr>
              <a:t>the inflection, tone, and speech habits typical of native speakers of a language) can affect how intelligible your message i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chieve </a:t>
            </a:r>
            <a:r>
              <a:rPr b="0" i="1" lang="en-US" sz="1200" spc="-1" strike="noStrike">
                <a:solidFill>
                  <a:srgbClr val="000000"/>
                </a:solidFill>
                <a:latin typeface="Arial"/>
              </a:rPr>
              <a:t>vocal expressiveness</a:t>
            </a:r>
            <a:r>
              <a:rPr b="0" lang="en-US" sz="1200" spc="-1" strike="noStrike">
                <a:solidFill>
                  <a:srgbClr val="000000"/>
                </a:solidFill>
                <a:latin typeface="Arial"/>
              </a:rPr>
              <a:t> by changing your pitch, volume, and rate, stressing certain words; and using pauses strategically. A total lack of vocal expressiveness produces a </a:t>
            </a:r>
            <a:r>
              <a:rPr b="0" i="1" lang="en-US" sz="1200" spc="-1" strike="noStrike">
                <a:solidFill>
                  <a:srgbClr val="000000"/>
                </a:solidFill>
                <a:latin typeface="Arial"/>
              </a:rPr>
              <a:t>monotone</a:t>
            </a:r>
            <a:r>
              <a:rPr b="0" lang="en-US" sz="1200" spc="-1" strike="noStrike">
                <a:solidFill>
                  <a:srgbClr val="000000"/>
                </a:solidFill>
                <a:latin typeface="Arial"/>
              </a:rPr>
              <a:t>—a voice in which the pitch, volume, and rate remain constant, with no word, idea, or sentence differing significantly in sound from any other.</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ideas can also be marked by </a:t>
            </a:r>
            <a:r>
              <a:rPr b="0" i="1" lang="en-US" sz="1200" spc="-1" strike="noStrike">
                <a:solidFill>
                  <a:srgbClr val="000000"/>
                </a:solidFill>
                <a:latin typeface="Arial"/>
              </a:rPr>
              <a:t>stresses</a:t>
            </a:r>
            <a:r>
              <a:rPr b="0" lang="en-US" sz="1200" spc="-1" strike="noStrike">
                <a:solidFill>
                  <a:srgbClr val="000000"/>
                </a:solidFill>
                <a:latin typeface="Arial"/>
              </a:rPr>
              <a:t> (emphasis placed on certain words by speaking them more loudly than the rest of the sentence) and </a:t>
            </a:r>
            <a:r>
              <a:rPr b="0" i="1" lang="en-US" sz="1200" spc="-1" strike="noStrike">
                <a:solidFill>
                  <a:srgbClr val="000000"/>
                </a:solidFill>
                <a:latin typeface="Arial"/>
              </a:rPr>
              <a:t>pauses</a:t>
            </a:r>
            <a:r>
              <a:rPr b="0" lang="en-US" sz="1200" spc="-1" strike="noStrike">
                <a:solidFill>
                  <a:srgbClr val="000000"/>
                </a:solidFill>
                <a:latin typeface="Arial"/>
              </a:rPr>
              <a:t> (strategically placed moments of silenc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5EF6-6ACC-4780-A2CE-98CBA674F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8512-B989-4794-A92D-CA362BF6D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1" name="PlaceHolder 1"/>
          <p:cNvSpPr>
            <a:spLocks noGrp="1"/>
          </p:cNvSpPr>
          <p:nvPr>
            <p:ph type="sldImg"/>
          </p:nvPr>
        </p:nvSpPr>
        <p:spPr>
          <a:xfrm>
            <a:off x="1143000" y="685800"/>
            <a:ext cx="4572000" cy="3429000"/>
          </a:xfrm>
          <a:prstGeom prst="rect">
            <a:avLst/>
          </a:prstGeom>
          <a:ln w="0">
            <a:noFill/>
          </a:ln>
        </p:spPr>
      </p:sp>
      <p:sp>
        <p:nvSpPr>
          <p:cNvPr id="20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s in this exhibit are commonly mispronounced or misarticu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sldImg"/>
          </p:nvPr>
        </p:nvSpPr>
        <p:spPr>
          <a:xfrm>
            <a:off x="1143000" y="685800"/>
            <a:ext cx="4572000" cy="3429000"/>
          </a:xfrm>
          <a:prstGeom prst="rect">
            <a:avLst/>
          </a:prstGeom>
          <a:ln w="0">
            <a:noFill/>
          </a:ln>
        </p:spPr>
      </p:sp>
      <p:sp>
        <p:nvSpPr>
          <p:cNvPr id="20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atly groomed and professional </a:t>
            </a:r>
            <a:r>
              <a:rPr b="0" i="1" lang="en-US" sz="1200" spc="-1" strike="noStrike">
                <a:solidFill>
                  <a:srgbClr val="000000"/>
                </a:solidFill>
                <a:latin typeface="Arial"/>
              </a:rPr>
              <a:t>appearance</a:t>
            </a:r>
            <a:r>
              <a:rPr b="0" lang="en-US" sz="1200" spc="-1" strike="noStrike">
                <a:solidFill>
                  <a:srgbClr val="000000"/>
                </a:solidFill>
                <a:latin typeface="Arial"/>
              </a:rPr>
              <a:t> sends important messages about a speaker’s commitment to the topic and occasion, as well as the speaker’s credibility (ethos). Dress a bit more formally than you expect your listeners to dress, consider your topic and purpose, and avoid “extreme” fashion statements.</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osture</a:t>
            </a:r>
            <a:r>
              <a:rPr b="0" lang="en-US" sz="1200" spc="-1" strike="noStrike">
                <a:solidFill>
                  <a:srgbClr val="000000"/>
                </a:solidFill>
                <a:latin typeface="Arial"/>
              </a:rPr>
              <a:t> refers to the position or bearing with which you hold your body. In speeches, an upright stance and squared shoulders communicate a sense of competence and confidence, which enhances your ethos. </a:t>
            </a:r>
            <a:r>
              <a:rPr b="0" i="1" lang="en-US" sz="1200" spc="-1" strike="noStrike">
                <a:solidFill>
                  <a:srgbClr val="000000"/>
                </a:solidFill>
                <a:latin typeface="Arial"/>
              </a:rPr>
              <a:t>Poise</a:t>
            </a:r>
            <a:r>
              <a:rPr b="0" lang="en-US" sz="1200" spc="-1" strike="noStrike">
                <a:solidFill>
                  <a:srgbClr val="000000"/>
                </a:solidFill>
                <a:latin typeface="Arial"/>
              </a:rPr>
              <a:t> is a graceful and controlled use of the body that gives the impression that you are self-assured, calm, and dignified.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ing </a:t>
            </a:r>
            <a:r>
              <a:rPr b="0" i="1" lang="en-US" sz="1200" spc="-1" strike="noStrike">
                <a:solidFill>
                  <a:srgbClr val="000000"/>
                </a:solidFill>
                <a:latin typeface="Arial"/>
              </a:rPr>
              <a:t>eye contact</a:t>
            </a:r>
            <a:r>
              <a:rPr b="0" lang="en-US" sz="1200" spc="-1" strike="noStrike">
                <a:solidFill>
                  <a:srgbClr val="000000"/>
                </a:solidFill>
                <a:latin typeface="Arial"/>
              </a:rPr>
              <a:t> helps audiences concentrate on the speech, bolsters ethos, and helps you gauge audience reaction to your speech.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ial expressions</a:t>
            </a:r>
            <a:r>
              <a:rPr b="0" lang="en-US" sz="1200" spc="-1" strike="noStrike">
                <a:solidFill>
                  <a:srgbClr val="000000"/>
                </a:solidFill>
                <a:latin typeface="Arial"/>
              </a:rPr>
              <a:t> are the eye and mouth movements that convey your personableness and good character (bolstering ethos) and can help you animate your speech (bolstering pathos). </a:t>
            </a:r>
            <a:r>
              <a:rPr b="0" i="1" lang="en-US" sz="1200" spc="-1" strike="noStrike">
                <a:solidFill>
                  <a:srgbClr val="000000"/>
                </a:solidFill>
                <a:latin typeface="Arial"/>
              </a:rPr>
              <a:t>Gestures</a:t>
            </a:r>
            <a:r>
              <a:rPr b="0" lang="en-US" sz="1200" spc="-1" strike="noStrike">
                <a:solidFill>
                  <a:srgbClr val="000000"/>
                </a:solidFill>
                <a:latin typeface="Arial"/>
              </a:rPr>
              <a:t>, the movements of your hands, arms, and fingers, can also help intelligibility and expressivenes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your speech, it is important to engage only in </a:t>
            </a:r>
            <a:r>
              <a:rPr b="0" i="1" lang="en-US" sz="1200" spc="-1" strike="noStrike">
                <a:solidFill>
                  <a:srgbClr val="000000"/>
                </a:solidFill>
                <a:latin typeface="Arial"/>
              </a:rPr>
              <a:t>motivated movement</a:t>
            </a:r>
            <a:r>
              <a:rPr b="0" lang="en-US" sz="1200" spc="-1" strike="noStrike">
                <a:solidFill>
                  <a:srgbClr val="000000"/>
                </a:solidFill>
                <a:latin typeface="Arial"/>
              </a:rPr>
              <a:t>, movement with a specific purpose such as emphasizing an important idea, referencing a presentational aid, or clarifying macrostructure. </a:t>
            </a:r>
            <a:endParaRPr b="0" lang="en-US" sz="1200" spc="-1" strike="noStrike">
              <a:solidFill>
                <a:srgbClr val="000000"/>
              </a:solidFill>
              <a:latin typeface="Arial"/>
            </a:endParaRPr>
          </a:p>
        </p:txBody>
      </p:sp>
      <p:sp>
        <p:nvSpPr>
          <p:cNvPr id="20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6E3A-C4DE-4AA0-897F-217779268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E5EF-5B7E-4747-89FE-E7B91CFB0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7" name="PlaceHolder 1"/>
          <p:cNvSpPr>
            <a:spLocks noGrp="1"/>
          </p:cNvSpPr>
          <p:nvPr>
            <p:ph type="sldImg"/>
          </p:nvPr>
        </p:nvSpPr>
        <p:spPr>
          <a:xfrm>
            <a:off x="1143000" y="685800"/>
            <a:ext cx="4572000" cy="3429000"/>
          </a:xfrm>
          <a:prstGeom prst="rect">
            <a:avLst/>
          </a:prstGeom>
          <a:ln w="0">
            <a:noFill/>
          </a:ln>
        </p:spPr>
      </p:sp>
      <p:sp>
        <p:nvSpPr>
          <p:cNvPr id="20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gestures as you speak to describe or emphasize what you are saying, refer to presentational aids, or clarify structures. This exhibit shows some of the most common gestures used by spe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55124-B2C9-41E6-A361-CD8AE74CE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E6C06-5C26-400F-90E6-AB30F4F5E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B30939-169A-4ACC-BA2B-0154684537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56D3A1-72EB-4F1A-B768-008564877C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0AD1C1-CC54-447F-9049-3E68B4EBFE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2CD856-70E5-4398-B22A-8C5D372397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2D6B6F-C1E0-47B4-9FCA-E2E62C910A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889C42-1C7A-4DCD-8E8E-B75122CE27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73D24A-637C-4DD6-9250-068A1D23B2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284623-A524-4C40-A4BF-7FE929ED19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D66A76-7ECB-4359-A22B-197D9851E3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E5D149-8900-44A2-9125-131DC8C155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727FF-8553-4D03-AA5D-3C4CD9573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2520FD-F179-471E-994C-E76254D234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8162CD-6977-42CE-AA41-A75E70BF77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D4BE06-2EC5-4DC3-AF2D-F4FE7D786D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7F0FC7-F462-4F2F-96F6-5E9574B352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291490-D16F-497D-83A4-ECB6DD5301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6B138D-0751-4485-ACF6-9DA2D77491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33B1F7-5AB0-47F0-B584-1763A7496B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A6D217-821C-4ADD-A2B0-D6B689C203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BAB9F4-4F9E-4502-A15E-FCA254F166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93385C-128F-4B03-829E-9DFCCD84000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3897F-F762-424F-B9B6-B4A695897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08A058-7117-4305-8B28-83DA74170E5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9549BF5-2B72-4A5D-96FF-4AD334BFBE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EB81E0-EB6A-4C4C-941E-33CCAFDCC4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B7EF91-3792-418A-B190-01C548F2E1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2851A4-2176-480C-AA19-0B3BF106DC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29D8B7-3BAD-474A-93FF-332CCE46E4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D0F598-C7E0-4138-93ED-7003D8DADA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0105ED-FAA3-4FD6-93CE-E7A939084A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9A9C3C-E14A-4293-AD0C-ECF59664DE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2D0EC7-67D0-417C-9D6C-DF970FE717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0E9569-96C8-43FC-B3F7-F6EA02AF52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2D1E7C-8A91-4FFE-8635-A4792C7951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302CEF2-914F-47CE-BD1C-AC1FAE44CF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C1AC9C8-A0C7-482F-90EF-0FDFBD7B554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29A5F33-0F8E-4556-A815-4A5502079BF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67CD33-E5FE-4178-8C3A-E8AA9100D4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D745BC9-7382-4390-94DC-B2EFF1309A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014B4A-60EC-4266-94C0-4460FF111F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A0F037-76D7-40B3-9DF8-E1F4B9F0CA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38EC1BF-3AA1-4BF9-A127-5F59BCAEEE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5F26AB-F0DD-47DA-B78D-53B65C6BA4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B9843-BE29-454D-BC86-99925E2B2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E578C8-F772-46C9-8225-4CFCDA4E0D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C1B557-C607-45F1-935F-D6B8E8241F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50B2E3-1E3B-4DF6-8C93-3D3AF9501E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31A0DC2-F39F-4D60-8568-4DAD45B83BF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30A9FA0-0130-41AD-80B5-13F2CC6981B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DDCC81A-0F5A-41E6-B1E4-0AD07818E1F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4B4D94-7075-42C2-A989-E369C9504B6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D740EE5-1775-421E-8644-165677111B3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30A24A-36AB-4F67-AB11-370C647FD20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997155A-A833-4AC2-B9C9-C031714F5B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73EE2-C533-4EBD-9E1C-3EBB53B1C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029BAA-BAD6-4748-9804-A9DFC5BA3A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1078F4-878A-4837-8EE5-874E888238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BB5B47-ABDD-463C-B31C-EB87D4FCA5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534414-92E8-48F9-8758-23BBFAED61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E409B08-F509-46DA-8604-0FC5141B54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ED4163C-3ED6-4B20-B5E3-CABAB10D2AC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6454DB8-B7AC-48DD-B654-E533B7AF608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9DDA68A-761D-4559-B887-1476F3C9D04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45E8ECF-3EFC-4836-9EE0-74D22BD5E04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9D5635E-5812-4084-B7A9-70BE8365EF6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FF74F-21AE-4984-9B3D-099E064CD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D9E52BF-C51E-442C-9BB7-5AE9FF4FFF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643D09A-34E2-4F2D-B3DE-DC193EE3EF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57F7655-8C3D-4FED-B654-7C3CFE39373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382C3B-BB6D-427D-8E16-5AA7BB19C94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5299BEE-27AC-4567-99C7-122315BD73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96B43CC-F534-4596-A8FA-5791BB9AD3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AA0E4CD-892B-49C4-B6D3-BF61D31E1E4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C3138F8-78C5-45C0-8AC2-08A4A45E26A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3C915AB-18F7-44F0-BD3D-06DC1ADE24A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2571A53-2243-4280-957C-97B93760364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8A594-0A7E-44F3-9B87-E17BD1568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422A8CA-D5E9-480E-9348-73EB883B2C9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01EA37C-6EEB-416E-B986-604D5246329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20A0AED-41C1-4B41-B315-151CB690FE4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F737CB9-04F9-4005-9177-1C428E98310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D450041-D033-4A4C-9E6A-379726DE8B9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94B92A4-9003-4DFF-A096-A33BF97958E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8556228-C5A4-4422-80BA-08AFC2C788F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649706F-7113-4377-9F77-D29A6575D4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7870811-061E-4A53-91EE-5876A12E55E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8F2186B-5B1F-4E8E-BE4F-9DF2723CDDC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38350-F24C-4E6F-BA7F-7D12E4CFA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1D52379-FC28-4888-9631-B1C188D3735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B9C4091-F6CE-406C-8EBC-3AF1A901E61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A8E381A-7BB2-4E2E-A6EE-F23E3AB86ED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153A8DC-BEDD-4CD3-A380-84321E593F7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E346F59-99DC-4151-BCE4-BC19E20C2D1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49DF58E-A7B9-49DB-B2C9-81AC0568A4A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B2AF085-F1AD-4B41-A875-324C49A00C4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393DE07-4919-47F8-B264-F211E2CF46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A1436B1-EB66-4C70-925B-4A65B08DFC1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8F878BC-DDD3-437B-AF8B-781C83BF55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E4C67-4DD1-4087-9082-272B45751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8FC8B15-7EBA-43A3-A118-0D09B274146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18BAA5E-A03E-45CA-8277-EA0BBB198A3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A41AF32-4FC0-426B-846A-B3B6ACA3A0F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D356D3B-6586-4B4E-BE2D-95FC683EE00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4B0E30B-B98E-45CD-871A-7490C9224ED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B082A99-FC7A-4776-8F4F-2A229BF257D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E37F4B5-1CD5-435F-BD87-691791B31BE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87EB78B-758B-4A75-9F00-E7AF7D89516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97DBC9D-ACD9-475A-884E-066D878B3C6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6C247FC-3CF7-4327-B6DB-6534389AE77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867B2-75CA-4CB3-8800-236DEE167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C6D9D-710F-4448-9B75-F915DC11D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6B984AB-1EDF-4EED-A9F5-9BD19932A80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031523E-889B-4DD1-B3D4-80DA8711382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5779585-5428-49E9-816D-6F9A1703988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827B038-839A-477C-9CD3-6D550AD5888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52738D6-5A58-4365-A5C5-E2061E4CA7B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147C72A-4792-432A-A105-68E32878238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B11EC31-6559-4D1A-B8DC-BC6E0412B83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131BDBE-CF60-44B8-B1B8-C5FB44769DC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392822C-CC12-4675-AD67-6755F8D090D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910B495-4FE9-4F14-8E4E-7E66829C6DD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84CD3-20E4-4229-B414-BA290B6F9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86C734E-6B73-493F-829F-39C7AC5F32A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A769EBB-7CEC-4CED-A92A-C60F13FCB89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AF35A7F-2B5C-403C-9815-4125C3F2D8F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06241EC-E425-4EF6-9CAF-C6D3F31C35C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4776726-0BD3-4C7B-B31D-5B40CB3D74E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306DAC9-DC3E-4218-B2BA-6913FD02719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EF0D7A1-0E84-4B2B-B102-2C65FB8594C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A87CF3F-0086-4126-A766-B5BDD281D52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E724408-180B-46C5-811F-85085BB259A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C3CE9F6-6E6C-4778-80AD-504D2ACB384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BB8BC-D54C-4C62-99DB-331CE3868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702A2F4-7262-4624-940B-8FF32E1E9D2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B5DA0A8-8C4E-4B52-8C44-49AFF7BF85D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5251C18-3770-459E-88AA-4CE0844C610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9F5CE2D-EA70-4C49-9C7C-61085521D81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CA47EB6-0A2C-4F63-AD0C-00CC8825FF1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8814410-E3AF-406F-ADD7-5624FD36A9B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FD6D82F-F8B9-4FB4-BE2E-698BF811473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E7A6C66-5A58-42C2-AC4F-BAE06C4F9B8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4C6A2F7-E22C-44F2-AA09-9E601190A7F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4D0E73D-8949-473A-8366-9DD911A902C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4CFADF-8AAF-42FB-94B0-46B9850A9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1E90FF0-9F6E-4024-A1D1-C4F7DA6D924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B25337F-7D1A-4178-9BF4-FB045D1BC6D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B8CE95F-FA41-4853-9848-4B335C8B858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BD20867-02EA-4EBC-91EE-9B646250D7B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A5BF5B0-420B-4977-95D2-8BBDCE30761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6681DF7-DC38-4DF0-A166-165C06C4690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1BB85CB-5AF1-4A48-A8ED-C76D4B9D511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C4FFA97-040E-4298-AFEA-7DB470AED55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1985239-F40C-4A5D-B5DA-88233ECDA53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FC2CC3D-76F8-4D89-958E-9F30EB87623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3EE207-35CE-4E3C-824A-AF70A8DC2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6878BD2-170F-424A-B4A7-333CF1C095F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5D8D80A-1261-49DE-BE1E-3408FCF4AA0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44CA7E3-915C-403C-9A4E-35EA7FDED17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7410592-297F-4AD1-812F-A6659066E7B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5083934-E06D-4F03-8DB9-9BE097D4516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C3FF082-C2D5-42A9-B974-5379499E679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562C5CA-E4B2-409E-B484-3D4554DF6C9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85647AB-5BCD-4CD2-B915-36A0D6BF77B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46F342D-7604-4EC0-9896-5EB2344C2F9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444045E-CD42-4E8F-AA44-98C952DD3C7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461673-427A-430D-B2D2-F30778E0E5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8E90F6D-01FD-4AFB-85C0-8CA4EAA3CB7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F3E0096-8448-4437-AC52-3D801CE2635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D0DCB0D-C731-45F6-A7DC-5313515BFD5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F063680-DD84-4AFB-90C5-F119C0566F1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3873861-44B1-4468-BF9C-4CE09570A64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CDE9E42-3C8F-4588-AC89-EB4805FC5B0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853DFD8-CA2A-45F6-8E37-4706E3E881D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29835AA-55C1-41FA-B05C-0967D712522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7746F18-B248-4E66-B5C6-D434AD7185B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F7E3EC3-0AE8-48E5-8A53-F54BC087CCD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3BFC5E-9100-48D5-874A-1873013564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2DA122E-F8D5-4DC3-8ACD-CC61A1FF467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0BF0416-B1E8-46E1-800D-CDB4F8EB0DA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2E0ACE0-25A2-414D-8658-D6AB346E31C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D284D06-B0D5-4AE2-ACD9-3BBD17440E2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AACE7E2-0E65-4A2D-A66D-33A5BD36045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0085E28-C0E1-4A5F-BDE1-DC024290781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FDFB2A5-7A87-42DC-9FE1-892084A22BC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8BE7DA1-FE94-42FD-A634-72AC2011549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EC4C270-8E60-4A86-912A-D78E70E2D4D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912DE5A-D40A-4A8F-87BD-09E8F794A70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290288-C277-4B3C-A566-1753697911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C824157-3F18-4683-8F09-114ED7698EA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EB7A4A7-D93F-4073-8F2B-D531388F46B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F1BABEC-6BEE-40AA-9356-41E512ED359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C3FEC7D-E90F-41E4-B00C-62A51B2A36D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B0A118B-9678-43B2-8DD1-BE6BFEB12A7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CB71832-F6E4-4A28-A1A8-F4AADE359B9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63E7CA4-71BB-435F-AE08-9E866312540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D40C271-ACAE-42AB-AF93-D6D10C5DE3C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F6BA455-25F8-4214-BC33-5A7E793F9F9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E2D2DFF-D2DC-473F-B415-A474D73B8B7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C684F9-0B00-45E4-818C-CB72CD356C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99FB781-B4C6-4E8D-8A23-4D7B551D2EF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6AB1880-8F6D-4B4B-AEAD-49AFE7D3875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5E4C2A5-39A2-4F28-9928-A63440B640B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CC6E4F2-DBCD-4888-8D4D-907BF9C9FA0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DBFD532-7D43-4004-BEB9-5212645BD3C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5BBCD5C-9F79-4417-B106-40632770C5F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12E304F-6B6E-4867-A33A-B6EFE5CD35E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BC86332-0C43-4A90-81F3-7FB04DE515F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42B575F-7996-45CC-9D34-70E41DEEFBD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F1AAB68-ED5B-4BFE-9034-7DAD39FC92A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8EF2D4-70A9-4CB2-9D4B-71F0C92038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5F66FDA-0DEC-4775-BB81-3A50B05BF13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89C94D0-2422-4BDA-8BC8-1B8B759CEE9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5C5E931-E38F-40DB-90AB-B23941C4155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76A9A45-C457-42F1-BDE4-845695B2E3C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89B73F1-C0C1-4CA9-AEF6-9C406975CB0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1FA2960-68CB-41F2-BACD-2843B73FA2D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09176B9-2E9D-417E-B5A7-034C4220D51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E3C4C31-4C46-45F6-B873-13C5E096ADE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862600C-774B-4029-9A30-5270B326894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F82AA32-0E15-442B-9713-F9681E5103C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473F3-D00B-4F74-AA3B-A6BC8DBC4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503C60-FABA-42CD-B5C6-BCA786C752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336BC48-1D72-4E39-AC0D-5227DAE6BE0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001E49C-155A-4130-9E8C-EA47C1F46A7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9F4568E-F12A-4935-A774-3AE77D79C7C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D950221-5B68-4A00-985E-AE7924620A6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C33FAC2-C4D0-4493-9F29-2263A1CF151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2465EC4-0766-4945-994D-17F6EC36B9C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3C38152-F2DD-438B-9E75-FCFC03707C2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510078B-D490-4832-B01D-B2029527A63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3376CFE-0B2C-4234-96BD-0CDD0A4D226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BE9DCDC-1727-4959-959A-B8E6EBA5650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6AD251-E34B-47B3-85A2-0454D18DAA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934F078-2CFE-4532-9F4B-213F58AEC63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A9989436-227E-436B-9258-C8E26294DF2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BD73C2C-B766-4AC7-BBF5-912BCA4DC62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15F3C7FB-7758-4C9F-ABC1-E234294F66C0}"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3BE679F-F0CC-4A50-95D6-C07BF1341DB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3B0FAD3-1EF5-4B26-BB51-A4016DFCF41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C6D84C3-803D-49CF-AE71-714E93537E1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D81A5AD-B732-462A-8FEE-4CB3AAFC623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8DDE3FD-7039-4D9F-AD56-FF8D34AFAB6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997662E-CB22-4A3C-943D-7E84992612C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5C43D2-594E-4C65-A25C-6C8135C964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8AB590C-980D-4137-B77B-760987A426C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3B5DBE2-8FF5-422D-BC20-D6492774D43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8008744-B233-48F1-BFCA-770F30EF192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4390A937-5B60-4322-A005-E58A369148F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A8A53D32-1993-485B-AD20-54F1A65E0A71}"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E9E23287-1E48-4AE3-A9ED-C6BDC28EE13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E4DC097-DA77-424C-BF7A-A6B22ADB0DA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D5AFB86-8FBA-46A0-B193-C18D1850B1A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454A702-B4F7-4B36-8F2B-5F4D315B05B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477B366-CE90-414B-B565-49A2B739678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E08E1-B1F8-4C83-A246-1E7EF1182E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D112B61-102D-452E-A9B1-2F4C49143DF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0B6690C-D0D1-46D2-AE21-2173FF464FC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0F67843-D2D7-418E-8630-24D3F18EF9F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5A8D550-8C3F-4F3A-A04F-400A63922A2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CEED3FC-6999-4359-BBCE-B255B9F5DB0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2F58FC7D-0F19-42E7-981A-4F8431D0EF1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44460BD-16B9-43FE-8BBB-767EF711495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51C04512-BFF7-49DD-9258-979BD9BC5E0A}"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ECBF945-317E-4DBC-BFCE-0DF790EDAE9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DAE8768-AAAE-490C-BCEF-694F5AC0D72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193446-A85E-4694-A835-4F554F8CFF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853FA89-6861-40E3-A64A-8B8C47B8267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19BBDE8-BC57-40B9-80AC-65C0BE97344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C5C77F3-EB26-4A8D-8F56-9345AA42BC7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0BCF3BF-C966-4B9D-9C48-8DD76FA3766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6B24AD2-72AB-4396-B48F-6F983E833C1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AE25258-E31B-4A28-A1D9-E9B4AA308D4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E80558F-B34E-45C5-B292-579C5BF77DB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414B4011-3629-47CB-A2DC-126871F60FCF}"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4BE88AC8-DE48-4E84-BAC2-12834A88F8A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A60063-D13A-4216-B28E-CD8DE864A9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1A72EB-88EB-4B32-BBD2-164CBC1565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A30021-1346-4D15-95BE-6CB958758E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0"/>
          </p:nvPr>
        </p:nvSpPr>
        <p:spPr/>
        <p:txBody>
          <a:bodyPr/>
          <a:p>
            <a:r>
              <a:t>Footer</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0"/>
          </p:nvPr>
        </p:nvSpPr>
        <p:spPr/>
        <p:txBody>
          <a:bodyPr/>
          <a:p>
            <a:r>
              <a:t>Footer</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dt" idx="9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28E25F-ECFF-4435-B69A-68E49E4C1C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dt" idx="9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dt" idx="9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dt" idx="9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dt" idx="9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dt" idx="9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dt" idx="9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dt" idx="9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CF4C7C-82F8-4085-832D-0DC99FE006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dt" idx="9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dt" idx="9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dt" idx="9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dt" idx="9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dt" idx="95"/>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dt" idx="95"/>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dt" idx="9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F6199-D32F-48E1-B786-6F0647E43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6DD7C1-CB08-4FE5-9177-2F6EDF3F80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dt" idx="95"/>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dt" idx="95"/>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dt" idx="95"/>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dt" idx="95"/>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dt" idx="95"/>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dt" idx="95"/>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dt" idx="95"/>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dt" idx="95"/>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dt" idx="95"/>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dt" idx="9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9C9D77-40D4-4910-99A6-4C55993880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dt" idx="9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dt" idx="9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dt" idx="9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dt" idx="9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dt" idx="9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dt" idx="9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dt" idx="9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dt" idx="9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dt" idx="9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dt" idx="9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4D8AB1-F46F-44B5-A1E4-C7853BA8EC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dt" idx="97"/>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dt" idx="99"/>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dt" idx="99"/>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dt" idx="99"/>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dt" idx="99"/>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dt" idx="99"/>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dt" idx="99"/>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dt" idx="99"/>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dt" idx="99"/>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dt" idx="9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1660D8-1329-467A-81E4-0C13AE434D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dt" idx="99"/>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dt" idx="99"/>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dt" idx="99"/>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dt" idx="101"/>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dt" idx="101"/>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dt" idx="101"/>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dt" idx="101"/>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dt" idx="101"/>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dt" idx="101"/>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dt" idx="10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D503C8-F298-4940-B633-86AFC66521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dt" idx="101"/>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dt" idx="101"/>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dt" idx="101"/>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dt" idx="101"/>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dt" idx="101"/>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dt" idx="103"/>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dt" idx="103"/>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dt" idx="103"/>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dt" idx="103"/>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dt" idx="10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8BAFA9-2D4E-4001-B988-8CD50B6130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dt" idx="103"/>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dt" idx="103"/>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dt" idx="103"/>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dt" idx="103"/>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dt" idx="103"/>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dt" idx="103"/>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dt" idx="103"/>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224606-CECD-4DCB-84F0-660573483B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dt" idx="10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C2EB53-5076-481B-B1F5-CFB71EB233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dt" idx="107"/>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dt" idx="107"/>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dt" idx="107"/>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dt" idx="107"/>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dt" idx="107"/>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dt" idx="107"/>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dt" idx="107"/>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dt" idx="107"/>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dt" idx="107"/>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dt" idx="10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804E5F-36D3-426D-8938-8FF8CBFE95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dt" idx="107"/>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dt" idx="109"/>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dt" idx="109"/>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dt" idx="109"/>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dt" idx="109"/>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dt" idx="109"/>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dt" idx="109"/>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dt" idx="109"/>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dt" idx="109"/>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dt" idx="10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36E6A9-3416-4BB3-A6D8-276CCD9204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dt" idx="109"/>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dt" idx="109"/>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dt" idx="109"/>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2"/>
          </p:nvPr>
        </p:nvSpPr>
        <p:spPr/>
        <p:txBody>
          <a:bodyPr/>
          <a:p>
            <a:r>
              <a:t>Footer</a:t>
            </a:r>
          </a:p>
        </p:txBody>
      </p:sp>
      <p:sp>
        <p:nvSpPr>
          <p:cNvPr id="3" name="PlaceHolder 2"/>
          <p:cNvSpPr>
            <a:spLocks noGrp="1"/>
          </p:cNvSpPr>
          <p:nvPr>
            <p:ph type="dt" idx="111"/>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dt" idx="111"/>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dt" idx="111"/>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dt" idx="111"/>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dt" idx="111"/>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dt" idx="111"/>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dt" idx="1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19FF4-4ACA-4B45-A1EF-6843FE111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126532-6F28-40DF-8DE6-BF0A36CB11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dt" idx="111"/>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dt" idx="111"/>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dt" idx="111"/>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2"/>
          </p:nvPr>
        </p:nvSpPr>
        <p:spPr/>
        <p:txBody>
          <a:bodyPr/>
          <a:p>
            <a:r>
              <a:t>Footer</a:t>
            </a:r>
          </a:p>
        </p:txBody>
      </p:sp>
      <p:sp>
        <p:nvSpPr>
          <p:cNvPr id="8" name="PlaceHolder 7"/>
          <p:cNvSpPr>
            <a:spLocks noGrp="1"/>
          </p:cNvSpPr>
          <p:nvPr>
            <p:ph type="dt" idx="111"/>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2"/>
          </p:nvPr>
        </p:nvSpPr>
        <p:spPr/>
        <p:txBody>
          <a:bodyPr/>
          <a:p>
            <a:r>
              <a:t>Footer</a:t>
            </a:r>
          </a:p>
        </p:txBody>
      </p:sp>
      <p:sp>
        <p:nvSpPr>
          <p:cNvPr id="10" name="PlaceHolder 9"/>
          <p:cNvSpPr>
            <a:spLocks noGrp="1"/>
          </p:cNvSpPr>
          <p:nvPr>
            <p:ph type="dt" idx="111"/>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4"/>
          </p:nvPr>
        </p:nvSpPr>
        <p:spPr/>
        <p:txBody>
          <a:bodyPr/>
          <a:p>
            <a:r>
              <a:t>Footer</a:t>
            </a:r>
          </a:p>
        </p:txBody>
      </p:sp>
      <p:sp>
        <p:nvSpPr>
          <p:cNvPr id="3" name="PlaceHolder 2"/>
          <p:cNvSpPr>
            <a:spLocks noGrp="1"/>
          </p:cNvSpPr>
          <p:nvPr>
            <p:ph type="dt" idx="113"/>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dt" idx="113"/>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dt" idx="113"/>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dt" idx="113"/>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dt" idx="1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88544C-D2FA-4093-BC61-5E98559CE7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dt" idx="113"/>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dt" idx="113"/>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dt" idx="113"/>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dt" idx="113"/>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dt" idx="113"/>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4"/>
          </p:nvPr>
        </p:nvSpPr>
        <p:spPr/>
        <p:txBody>
          <a:bodyPr/>
          <a:p>
            <a:r>
              <a:t>Footer</a:t>
            </a:r>
          </a:p>
        </p:txBody>
      </p:sp>
      <p:sp>
        <p:nvSpPr>
          <p:cNvPr id="8" name="PlaceHolder 7"/>
          <p:cNvSpPr>
            <a:spLocks noGrp="1"/>
          </p:cNvSpPr>
          <p:nvPr>
            <p:ph type="dt" idx="113"/>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4"/>
          </p:nvPr>
        </p:nvSpPr>
        <p:spPr/>
        <p:txBody>
          <a:bodyPr/>
          <a:p>
            <a:r>
              <a:t>Footer</a:t>
            </a:r>
          </a:p>
        </p:txBody>
      </p:sp>
      <p:sp>
        <p:nvSpPr>
          <p:cNvPr id="10" name="PlaceHolder 9"/>
          <p:cNvSpPr>
            <a:spLocks noGrp="1"/>
          </p:cNvSpPr>
          <p:nvPr>
            <p:ph type="dt" idx="113"/>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dt" idx="115"/>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dt" idx="115"/>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dt" idx="1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C2C9EF-3281-4896-B4D3-90BAD19DE1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dt" idx="115"/>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dt" idx="115"/>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dt" idx="115"/>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dt" idx="115"/>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dt" idx="115"/>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dt" idx="115"/>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dt" idx="115"/>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dt" idx="115"/>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dt" idx="115"/>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8"/>
          </p:nvPr>
        </p:nvSpPr>
        <p:spPr/>
        <p:txBody>
          <a:bodyPr/>
          <a:p>
            <a:r>
              <a:t>Footer</a:t>
            </a:r>
          </a:p>
        </p:txBody>
      </p:sp>
      <p:sp>
        <p:nvSpPr>
          <p:cNvPr id="3" name="PlaceHolder 2"/>
          <p:cNvSpPr>
            <a:spLocks noGrp="1"/>
          </p:cNvSpPr>
          <p:nvPr>
            <p:ph type="dt" idx="11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1FE4CB-85B8-49E3-83D8-DBE8BF5622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dt" idx="117"/>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dt" idx="117"/>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dt" idx="117"/>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dt" idx="117"/>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dt" idx="117"/>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dt" idx="117"/>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dt" idx="117"/>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dt" idx="117"/>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dt" idx="117"/>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8"/>
          </p:nvPr>
        </p:nvSpPr>
        <p:spPr/>
        <p:txBody>
          <a:bodyPr/>
          <a:p>
            <a:r>
              <a:t>Footer</a:t>
            </a:r>
          </a:p>
        </p:txBody>
      </p:sp>
      <p:sp>
        <p:nvSpPr>
          <p:cNvPr id="8" name="PlaceHolder 7"/>
          <p:cNvSpPr>
            <a:spLocks noGrp="1"/>
          </p:cNvSpPr>
          <p:nvPr>
            <p:ph type="dt" idx="11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122594-8714-460B-94AE-2D4815E038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8"/>
          </p:nvPr>
        </p:nvSpPr>
        <p:spPr/>
        <p:txBody>
          <a:bodyPr/>
          <a:p>
            <a:r>
              <a:t>Footer</a:t>
            </a:r>
          </a:p>
        </p:txBody>
      </p:sp>
      <p:sp>
        <p:nvSpPr>
          <p:cNvPr id="10" name="PlaceHolder 9"/>
          <p:cNvSpPr>
            <a:spLocks noGrp="1"/>
          </p:cNvSpPr>
          <p:nvPr>
            <p:ph type="dt" idx="117"/>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0"/>
          </p:nvPr>
        </p:nvSpPr>
        <p:spPr/>
        <p:txBody>
          <a:bodyPr/>
          <a:p>
            <a:r>
              <a:t>Footer</a:t>
            </a:r>
          </a:p>
        </p:txBody>
      </p:sp>
      <p:sp>
        <p:nvSpPr>
          <p:cNvPr id="3" name="PlaceHolder 2"/>
          <p:cNvSpPr>
            <a:spLocks noGrp="1"/>
          </p:cNvSpPr>
          <p:nvPr>
            <p:ph type="dt" idx="119"/>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dt" idx="119"/>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dt" idx="119"/>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dt" idx="119"/>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dt" idx="119"/>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dt" idx="119"/>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dt" idx="119"/>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dt" idx="119"/>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dt" idx="11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CACC15-49EF-4168-B1AD-E02F62C5B6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dt" idx="119"/>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0"/>
          </p:nvPr>
        </p:nvSpPr>
        <p:spPr/>
        <p:txBody>
          <a:bodyPr/>
          <a:p>
            <a:r>
              <a:t>Footer</a:t>
            </a:r>
          </a:p>
        </p:txBody>
      </p:sp>
      <p:sp>
        <p:nvSpPr>
          <p:cNvPr id="8" name="PlaceHolder 7"/>
          <p:cNvSpPr>
            <a:spLocks noGrp="1"/>
          </p:cNvSpPr>
          <p:nvPr>
            <p:ph type="dt" idx="119"/>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0"/>
          </p:nvPr>
        </p:nvSpPr>
        <p:spPr/>
        <p:txBody>
          <a:bodyPr/>
          <a:p>
            <a:r>
              <a:t>Footer</a:t>
            </a:r>
          </a:p>
        </p:txBody>
      </p:sp>
      <p:sp>
        <p:nvSpPr>
          <p:cNvPr id="10" name="PlaceHolder 9"/>
          <p:cNvSpPr>
            <a:spLocks noGrp="1"/>
          </p:cNvSpPr>
          <p:nvPr>
            <p:ph type="dt" idx="119"/>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dt" idx="121"/>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dt" idx="121"/>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dt" idx="121"/>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dt" idx="121"/>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dt" idx="121"/>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dt" idx="121"/>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dt" idx="12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D8C85A-0FA3-41AA-93CA-59B35A486C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dt" idx="121"/>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dt" idx="121"/>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dt" idx="121"/>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dt" idx="121"/>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dt" idx="12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5CA8D0-FD37-45C0-820E-EF7E70E393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86985D-FB7B-448C-AAA8-96D8563C35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68E494-F78D-490D-AE43-E2F7F8227D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93428-E540-4B07-B783-273CD02F4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DBC7F5-B2A0-4B02-9D63-83BB53D509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3917EE-5F36-4470-8E05-ED953FFCA4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E37F83-745F-425D-9403-EA35EFF2A7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A77DBD-5FBF-4B1C-9AA2-233E2BA423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BF6994-2477-486D-8E54-F694EFFE74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E25CF5-8606-458B-9E59-037A87E11A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BFEBC8-4F64-46C6-82CB-3C12FA3E49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B2F8FE-C188-48AC-B7FA-755D2D379C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22D2BE-C686-45FC-AA9F-E21F7881A1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D28BDF-608E-4D0A-9275-FBDA5357EB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7E1A8-A57A-4E17-B068-2203901FD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92570F-9C1A-42EE-9B3C-80EBFA517B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C49753-8632-4BFD-B539-3292FB70E3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4A883D-0DAF-4EE2-BA16-39D00ECF22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650D47-BE27-4C8B-8E35-520CC8E7B8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69AF77-5EBF-45BD-859D-7410C30703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077476-96A5-4D16-9416-BCE89587C7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09291B-2CA6-4A9B-9321-97389CCB0E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8F1F52-A6F6-4F03-A7B2-431762DCB3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32D98E-8825-4D1B-831F-275E26ACB8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44068E-2A37-4781-8D04-28E00522C1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16246-55FC-4263-B0AE-5C1147681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B58D7E-2390-413D-9897-85F913BC7F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68FC62-524F-464D-949A-E18FC71985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67C1B0-B7C7-4610-85F1-A8627BCDAA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4396E7-9997-4BF0-B960-31B2CE3088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1130C1-90C4-4883-8CEC-E30E3D4F49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D974BB-9D47-43EF-8E4B-5F53DD06BB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172606-4D71-4AA2-A3EB-27273B66A2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B992FA-9AF9-41D2-980A-D701EA3493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AC3D0E-5FDF-47F4-9977-C01A95BB26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B41505-7B96-40A3-8A11-27E8430937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00A8E-93F1-4805-A8CE-018F01D06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7C3C68-4FA8-4CE9-9849-90EF8878E2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BF789B-FF6A-40F2-8CE4-D5F1FF5714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CA5A8B-50A2-4F5F-8801-1655B6701E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71CA0C-8075-49F1-9974-398EDFD3C0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545B8D-E9FA-4A11-A274-89A7F23F77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E18155-B3A4-49C1-86A3-BB6E45AA1E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BD0DF1-1FDA-4AD9-AFED-EA28661A3D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1A9B44-09D1-4C0F-8751-A6C7D8480D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B518BB-EB8D-418F-9E14-FE0350F231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7DA963-17CA-4BCF-9F2A-962BF8865D2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94AA0-C6E6-4D3F-9DFC-D9E7824B1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96C1-5ECD-418B-ADB3-3BA0F659F9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085C-C5F5-4C8E-A877-C0DDCD0E79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E172-75A2-4836-85B7-91BC189052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7704-69AD-4E57-801C-BD0D802A19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089E-B26A-43F2-8405-B6AAB1D31B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72D4-7D3A-4667-9AAB-FC77DBB1D9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703D1-19C2-4E2D-A814-330ED8579B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9E1A-0430-4A14-B688-337E5FE54D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5"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D655-4F81-4D29-ACF0-2CBCA156BC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B2922-A553-4D47-B74A-AC6BDF72D7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92DF-B555-49F3-89FA-3221016124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9"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52AF-02EE-49BC-82EC-DA30513E2B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1"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4B47-5D16-4F6E-94D7-38DCF6B0A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FCFF-35FD-4689-BF96-520A21403E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5"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D67CA-EF9E-45DA-A68F-534F8CEB8F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CF5B-3606-4AF0-B874-E4D806CDC1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9"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4A93-D328-4D14-99BA-6652B7CC3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1"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B315-BA82-40C5-A681-189EF51EB4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3"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4D95C-8BB5-4E8C-B789-BEEE45DDA3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5"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E679-8F6D-472D-B61D-2EFE9F782F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E3D5-7C16-448C-84E0-B5CB940A62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7494-E6B1-4CA7-8B50-FC035E35D2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0"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0" name="PlaceHolder 3"/>
          <p:cNvSpPr>
            <a:spLocks noGrp="1"/>
          </p:cNvSpPr>
          <p:nvPr>
            <p:ph type="ftr" idx="9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0"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1" name="PlaceHolder 3"/>
          <p:cNvSpPr>
            <a:spLocks noGrp="1"/>
          </p:cNvSpPr>
          <p:nvPr>
            <p:ph type="dt" idx="9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PlaceHolder 4"/>
          <p:cNvSpPr>
            <a:spLocks noGrp="1"/>
          </p:cNvSpPr>
          <p:nvPr>
            <p:ph type="ftr" idx="9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2" name="PlaceHolder 3"/>
          <p:cNvSpPr>
            <a:spLocks noGrp="1"/>
          </p:cNvSpPr>
          <p:nvPr>
            <p:ph type="dt" idx="9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PlaceHolder 4"/>
          <p:cNvSpPr>
            <a:spLocks noGrp="1"/>
          </p:cNvSpPr>
          <p:nvPr>
            <p:ph type="ftr" idx="9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3"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4" name="PlaceHolder 3"/>
          <p:cNvSpPr>
            <a:spLocks noGrp="1"/>
          </p:cNvSpPr>
          <p:nvPr>
            <p:ph type="dt" idx="9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PlaceHolder 4"/>
          <p:cNvSpPr>
            <a:spLocks noGrp="1"/>
          </p:cNvSpPr>
          <p:nvPr>
            <p:ph type="ftr" idx="10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5" name="PlaceHolder 3"/>
          <p:cNvSpPr>
            <a:spLocks noGrp="1"/>
          </p:cNvSpPr>
          <p:nvPr>
            <p:ph type="dt" idx="10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PlaceHolder 4"/>
          <p:cNvSpPr>
            <a:spLocks noGrp="1"/>
          </p:cNvSpPr>
          <p:nvPr>
            <p:ph type="ftr" idx="10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6"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97" name="PlaceHolder 3"/>
          <p:cNvSpPr>
            <a:spLocks noGrp="1"/>
          </p:cNvSpPr>
          <p:nvPr>
            <p:ph type="dt" idx="10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PlaceHolder 4"/>
          <p:cNvSpPr>
            <a:spLocks noGrp="1"/>
          </p:cNvSpPr>
          <p:nvPr>
            <p:ph type="ftr" idx="10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7C1E-8D1A-4D2B-94F8-C59AE0D791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8" name="PlaceHolder 3"/>
          <p:cNvSpPr>
            <a:spLocks noGrp="1"/>
          </p:cNvSpPr>
          <p:nvPr>
            <p:ph type="dt" idx="10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PlaceHolder 4"/>
          <p:cNvSpPr>
            <a:spLocks noGrp="1"/>
          </p:cNvSpPr>
          <p:nvPr>
            <p:ph type="ftr" idx="10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9" name="PlaceHolder 3"/>
          <p:cNvSpPr>
            <a:spLocks noGrp="1"/>
          </p:cNvSpPr>
          <p:nvPr>
            <p:ph type="dt" idx="10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PlaceHolder 4"/>
          <p:cNvSpPr>
            <a:spLocks noGrp="1"/>
          </p:cNvSpPr>
          <p:nvPr>
            <p:ph type="ftr" idx="1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0" name="PlaceHolder 3"/>
          <p:cNvSpPr>
            <a:spLocks noGrp="1"/>
          </p:cNvSpPr>
          <p:nvPr>
            <p:ph type="dt" idx="11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PlaceHolder 4"/>
          <p:cNvSpPr>
            <a:spLocks noGrp="1"/>
          </p:cNvSpPr>
          <p:nvPr>
            <p:ph type="ftr" idx="1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1" name="PlaceHolder 3"/>
          <p:cNvSpPr>
            <a:spLocks noGrp="1"/>
          </p:cNvSpPr>
          <p:nvPr>
            <p:ph type="dt" idx="1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PlaceHolder 4"/>
          <p:cNvSpPr>
            <a:spLocks noGrp="1"/>
          </p:cNvSpPr>
          <p:nvPr>
            <p:ph type="ftr" idx="1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2" name="PlaceHolder 3"/>
          <p:cNvSpPr>
            <a:spLocks noGrp="1"/>
          </p:cNvSpPr>
          <p:nvPr>
            <p:ph type="dt" idx="1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PlaceHolder 4"/>
          <p:cNvSpPr>
            <a:spLocks noGrp="1"/>
          </p:cNvSpPr>
          <p:nvPr>
            <p:ph type="ftr" idx="1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3" name="PlaceHolder 3"/>
          <p:cNvSpPr>
            <a:spLocks noGrp="1"/>
          </p:cNvSpPr>
          <p:nvPr>
            <p:ph type="dt" idx="1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PlaceHolder 4"/>
          <p:cNvSpPr>
            <a:spLocks noGrp="1"/>
          </p:cNvSpPr>
          <p:nvPr>
            <p:ph type="ftr" idx="1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84" name="PlaceHolder 3"/>
          <p:cNvSpPr>
            <a:spLocks noGrp="1"/>
          </p:cNvSpPr>
          <p:nvPr>
            <p:ph type="dt" idx="1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PlaceHolder 4"/>
          <p:cNvSpPr>
            <a:spLocks noGrp="1"/>
          </p:cNvSpPr>
          <p:nvPr>
            <p:ph type="ftr" idx="1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5" name="PlaceHolder 3"/>
          <p:cNvSpPr>
            <a:spLocks noGrp="1"/>
          </p:cNvSpPr>
          <p:nvPr>
            <p:ph type="dt" idx="1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PlaceHolder 4"/>
          <p:cNvSpPr>
            <a:spLocks noGrp="1"/>
          </p:cNvSpPr>
          <p:nvPr>
            <p:ph type="ftr" idx="1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60B7-FD55-4348-BA2F-D84649B54A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8DDB-CCE6-4AE0-A4FA-48FC6359F3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46FE-2545-4B5D-B699-F47112B2D0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CE053-AECA-421F-9AA7-D8B154CE15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0B9F-B836-43A5-BBF5-41B9B39514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0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slideLayout" Target="../slideLayouts/slideLayout21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slideLayout" Target="../slideLayouts/slideLayout21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7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0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0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21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7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17.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0" name="Text Box 6"/>
          <p:cNvSpPr/>
          <p:nvPr/>
        </p:nvSpPr>
        <p:spPr>
          <a:xfrm>
            <a:off x="0" y="209376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Verdana"/>
              </a:rPr>
              <a:t>Say it with Power</a:t>
            </a:r>
            <a:endParaRPr b="0" lang="en-US" sz="6000" spc="-1" strike="noStrike">
              <a:solidFill>
                <a:srgbClr val="000000"/>
              </a:solidFill>
              <a:latin typeface="Arial"/>
            </a:endParaRPr>
          </a:p>
        </p:txBody>
      </p:sp>
      <p:sp>
        <p:nvSpPr>
          <p:cNvPr id="1971" name="Text Box 7"/>
          <p:cNvSpPr/>
          <p:nvPr/>
        </p:nvSpPr>
        <p:spPr>
          <a:xfrm>
            <a:off x="101520" y="-115920"/>
            <a:ext cx="904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a:t>
            </a:r>
            <a:endParaRPr b="0" lang="en-US" sz="4000" spc="-1" strike="noStrike">
              <a:solidFill>
                <a:srgbClr val="000000"/>
              </a:solidFill>
              <a:latin typeface="Arial"/>
            </a:endParaRPr>
          </a:p>
        </p:txBody>
      </p:sp>
      <p:sp>
        <p:nvSpPr>
          <p:cNvPr id="1972" name="Rectangle 1"/>
          <p:cNvSpPr/>
          <p:nvPr/>
        </p:nvSpPr>
        <p:spPr>
          <a:xfrm>
            <a:off x="0" y="5181480"/>
            <a:ext cx="9144000" cy="46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6" name=""/>
          <p:cNvSpPr txBox="1"/>
          <p:nvPr/>
        </p:nvSpPr>
        <p:spPr>
          <a:xfrm>
            <a:off x="457200" y="1774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mpromptu speeches</a:t>
            </a:r>
            <a:r>
              <a:rPr b="0" lang="en-US" sz="3200" spc="-1" strike="noStrike">
                <a:solidFill>
                  <a:srgbClr val="000000"/>
                </a:solidFill>
                <a:latin typeface="Arial"/>
              </a:rPr>
              <a:t>—delivered with little or no advance notice for prepa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cripted speeches</a:t>
            </a:r>
            <a:r>
              <a:rPr b="0" lang="en-US" sz="3200" spc="-1" strike="noStrike">
                <a:solidFill>
                  <a:srgbClr val="000000"/>
                </a:solidFill>
                <a:latin typeface="Arial"/>
              </a:rPr>
              <a:t>—delivered by reading or memorizing a written cop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temporaneous speeches</a:t>
            </a:r>
            <a:r>
              <a:rPr b="0" lang="en-US" sz="3200" spc="-1" strike="noStrike">
                <a:solidFill>
                  <a:srgbClr val="000000"/>
                </a:solidFill>
                <a:latin typeface="Arial"/>
              </a:rPr>
              <a:t>—researched and planned ahead of time, but exact wording is not scripted.</a:t>
            </a:r>
            <a:endParaRPr b="0" lang="en-US" sz="3200" spc="-1" strike="noStrike">
              <a:solidFill>
                <a:srgbClr val="000000"/>
              </a:solidFill>
              <a:latin typeface="Arial"/>
            </a:endParaRPr>
          </a:p>
        </p:txBody>
      </p:sp>
      <p:sp>
        <p:nvSpPr>
          <p:cNvPr id="1997"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elivery Methods</a:t>
            </a:r>
            <a:endParaRPr b="0" lang="en-US" sz="5400" spc="-1" strike="noStrike">
              <a:solidFill>
                <a:srgbClr val="000000"/>
              </a:solidFill>
              <a:latin typeface="Arial"/>
            </a:endParaRPr>
          </a:p>
        </p:txBody>
      </p:sp>
      <p:sp>
        <p:nvSpPr>
          <p:cNvPr id="199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9" name=""/>
          <p:cNvSpPr txBox="1"/>
          <p:nvPr/>
        </p:nvSpPr>
        <p:spPr>
          <a:xfrm>
            <a:off x="457200" y="17748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Rehearsing</a:t>
            </a:r>
            <a:r>
              <a:rPr b="0" lang="en-US" sz="3600" spc="-1" strike="noStrike">
                <a:solidFill>
                  <a:srgbClr val="000000"/>
                </a:solidFill>
                <a:latin typeface="Arial"/>
              </a:rPr>
              <a:t> is the process of practicing your speech aloud. You can rehearse effectively by:</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ing speaking no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ing presentational ai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hearsing and refining delivery</a:t>
            </a:r>
            <a:endParaRPr b="0" lang="en-US" sz="2800" spc="-1" strike="noStrike">
              <a:solidFill>
                <a:srgbClr val="000000"/>
              </a:solidFill>
              <a:latin typeface="Arial"/>
            </a:endParaRPr>
          </a:p>
        </p:txBody>
      </p:sp>
      <p:sp>
        <p:nvSpPr>
          <p:cNvPr id="2000"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hearsal</a:t>
            </a:r>
            <a:endParaRPr b="0" lang="en-US" sz="5400" spc="-1" strike="noStrike">
              <a:solidFill>
                <a:srgbClr val="000000"/>
              </a:solidFill>
              <a:latin typeface="Arial"/>
            </a:endParaRPr>
          </a:p>
        </p:txBody>
      </p:sp>
      <p:sp>
        <p:nvSpPr>
          <p:cNvPr id="200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2"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Timetable for Preparing a Speech</a:t>
            </a:r>
            <a:endParaRPr b="0" lang="en-US" sz="4000" spc="-1" strike="noStrike">
              <a:solidFill>
                <a:srgbClr val="000000"/>
              </a:solidFill>
              <a:latin typeface="Arial"/>
            </a:endParaRPr>
          </a:p>
        </p:txBody>
      </p:sp>
      <p:pic>
        <p:nvPicPr>
          <p:cNvPr id="2004" name="Picture 6" descr=""/>
          <p:cNvPicPr/>
          <p:nvPr/>
        </p:nvPicPr>
        <p:blipFill>
          <a:blip r:embed="rId2"/>
          <a:stretch/>
        </p:blipFill>
        <p:spPr>
          <a:xfrm>
            <a:off x="1528920" y="2455920"/>
            <a:ext cx="5991120" cy="418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5" name=""/>
          <p:cNvSpPr txBox="1"/>
          <p:nvPr/>
        </p:nvSpPr>
        <p:spPr>
          <a:xfrm>
            <a:off x="457200" y="171612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peaking notes</a:t>
            </a:r>
            <a:r>
              <a:rPr b="0" lang="en-US" sz="3200" spc="-1" strike="noStrike">
                <a:solidFill>
                  <a:srgbClr val="000000"/>
                </a:solidFill>
                <a:latin typeface="Arial"/>
              </a:rPr>
              <a:t> are a key-word outline of your speech, including data such as quotations and statistics as well as delivery cues.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ers often find that the act of making a note card is so effective in helping cement ideas in the mind that during practice, or later during the speech itself, they rarely use the notes at all.</a:t>
            </a:r>
            <a:endParaRPr b="0" lang="en-US" sz="3200" spc="-1" strike="noStrike">
              <a:solidFill>
                <a:srgbClr val="000000"/>
              </a:solidFill>
              <a:latin typeface="Arial"/>
            </a:endParaRPr>
          </a:p>
        </p:txBody>
      </p:sp>
      <p:sp>
        <p:nvSpPr>
          <p:cNvPr id="200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5</a:t>
            </a:r>
            <a:endParaRPr b="0" lang="en-US" sz="1600" spc="-1" strike="noStrike">
              <a:solidFill>
                <a:srgbClr val="000000"/>
              </a:solidFill>
              <a:latin typeface="Arial"/>
            </a:endParaRPr>
          </a:p>
        </p:txBody>
      </p:sp>
      <p:sp>
        <p:nvSpPr>
          <p:cNvPr id="2007"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paring Speaking No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8"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Sample Note Card</a:t>
            </a:r>
            <a:endParaRPr b="0" lang="en-US" sz="4000" spc="-1" strike="noStrike">
              <a:solidFill>
                <a:srgbClr val="000000"/>
              </a:solidFill>
              <a:latin typeface="Arial"/>
            </a:endParaRPr>
          </a:p>
        </p:txBody>
      </p:sp>
      <p:pic>
        <p:nvPicPr>
          <p:cNvPr id="2010" name="Picture 6" descr=""/>
          <p:cNvPicPr/>
          <p:nvPr/>
        </p:nvPicPr>
        <p:blipFill>
          <a:blip r:embed="rId2"/>
          <a:stretch/>
        </p:blipFill>
        <p:spPr>
          <a:xfrm>
            <a:off x="284040" y="2575080"/>
            <a:ext cx="8245440" cy="377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1" name=""/>
          <p:cNvSpPr txBox="1"/>
          <p:nvPr/>
        </p:nvSpPr>
        <p:spPr>
          <a:xfrm>
            <a:off x="457200" y="171612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idelines for Using Presentational Aids</a:t>
            </a:r>
            <a:endParaRPr b="0" lang="en-US" sz="3200" spc="-1" strike="noStrike">
              <a:solidFill>
                <a:srgbClr val="000000"/>
              </a:solidFill>
              <a:latin typeface="Arial"/>
            </a:endParaRPr>
          </a:p>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fully plan when to use the presentational aids.</a:t>
            </a:r>
            <a:endParaRPr b="0" lang="en-US" sz="3200" spc="-1" strike="noStrike">
              <a:solidFill>
                <a:srgbClr val="000000"/>
              </a:solidFill>
              <a:latin typeface="Arial"/>
            </a:endParaRPr>
          </a:p>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udience needs carefully.</a:t>
            </a:r>
            <a:endParaRPr b="0" lang="en-US" sz="3200" spc="-1" strike="noStrike">
              <a:solidFill>
                <a:srgbClr val="000000"/>
              </a:solidFill>
              <a:latin typeface="Arial"/>
            </a:endParaRPr>
          </a:p>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on presentational aids and equipment before beginning your speech.</a:t>
            </a:r>
            <a:endParaRPr b="0" lang="en-US" sz="3200" spc="-1" strike="noStrike">
              <a:solidFill>
                <a:srgbClr val="000000"/>
              </a:solidFill>
              <a:latin typeface="Arial"/>
            </a:endParaRPr>
          </a:p>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a presentational aid only when talking about it.</a:t>
            </a:r>
            <a:endParaRPr b="0" lang="en-US" sz="3200" spc="-1" strike="noStrike">
              <a:solidFill>
                <a:srgbClr val="000000"/>
              </a:solidFill>
              <a:latin typeface="Arial"/>
            </a:endParaRPr>
          </a:p>
        </p:txBody>
      </p:sp>
      <p:sp>
        <p:nvSpPr>
          <p:cNvPr id="2012"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ndling</a:t>
            </a:r>
            <a:br>
              <a:rPr sz="4000"/>
            </a:br>
            <a:r>
              <a:rPr b="1" lang="en-US" sz="4000" spc="-1" strike="noStrike">
                <a:solidFill>
                  <a:srgbClr val="000000"/>
                </a:solidFill>
                <a:latin typeface="Arial"/>
              </a:rPr>
              <a:t>Presentational Aids</a:t>
            </a:r>
            <a:endParaRPr b="0" lang="en-US" sz="4000" spc="-1" strike="noStrike">
              <a:solidFill>
                <a:srgbClr val="000000"/>
              </a:solidFill>
              <a:latin typeface="Arial"/>
            </a:endParaRPr>
          </a:p>
        </p:txBody>
      </p:sp>
      <p:sp>
        <p:nvSpPr>
          <p:cNvPr id="201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4" name=""/>
          <p:cNvSpPr txBox="1"/>
          <p:nvPr/>
        </p:nvSpPr>
        <p:spPr>
          <a:xfrm>
            <a:off x="457200" y="171612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idelines for Using Presentational Aids</a:t>
            </a:r>
            <a:endParaRPr b="0" lang="en-US" sz="3200" spc="-1" strike="noStrike">
              <a:solidFill>
                <a:srgbClr val="000000"/>
              </a:solidFill>
              <a:latin typeface="Arial"/>
            </a:endParaRPr>
          </a:p>
          <a:p>
            <a:pPr lvl="1" marL="628560" indent="-5140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presentational aids so that everyone in the audience can see and hear them.</a:t>
            </a:r>
            <a:endParaRPr b="0" lang="en-US" sz="2800" spc="-1" strike="noStrike">
              <a:solidFill>
                <a:srgbClr val="000000"/>
              </a:solidFill>
              <a:latin typeface="Arial"/>
            </a:endParaRPr>
          </a:p>
          <a:p>
            <a:pPr lvl="1" marL="628560" indent="-5140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the presentational aid during the speech.</a:t>
            </a:r>
            <a:endParaRPr b="0" lang="en-US" sz="2800" spc="-1" strike="noStrike">
              <a:solidFill>
                <a:srgbClr val="000000"/>
              </a:solidFill>
              <a:latin typeface="Arial"/>
            </a:endParaRPr>
          </a:p>
          <a:p>
            <a:pPr lvl="1" marL="628560" indent="-5140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 to your audience, not to the presentational aid.</a:t>
            </a:r>
            <a:endParaRPr b="0" lang="en-US" sz="2800" spc="-1" strike="noStrike">
              <a:solidFill>
                <a:srgbClr val="000000"/>
              </a:solidFill>
              <a:latin typeface="Arial"/>
            </a:endParaRPr>
          </a:p>
          <a:p>
            <a:pPr lvl="1" marL="628560" indent="-5140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 the temptation to pass objects through the audience.</a:t>
            </a:r>
            <a:endParaRPr b="0" lang="en-US" sz="2800" spc="-1" strike="noStrike">
              <a:solidFill>
                <a:srgbClr val="000000"/>
              </a:solidFill>
              <a:latin typeface="Arial"/>
            </a:endParaRPr>
          </a:p>
          <a:p>
            <a:pPr lvl="1" marL="628560" indent="-5140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5"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ndling</a:t>
            </a:r>
            <a:br>
              <a:rPr sz="4000"/>
            </a:br>
            <a:r>
              <a:rPr b="1" lang="en-US" sz="4000" spc="-1" strike="noStrike">
                <a:solidFill>
                  <a:srgbClr val="000000"/>
                </a:solidFill>
                <a:latin typeface="Arial"/>
              </a:rPr>
              <a:t>Presentational Aids</a:t>
            </a:r>
            <a:endParaRPr b="0" lang="en-US" sz="4000" spc="-1" strike="noStrike">
              <a:solidFill>
                <a:srgbClr val="000000"/>
              </a:solidFill>
              <a:latin typeface="Arial"/>
            </a:endParaRPr>
          </a:p>
        </p:txBody>
      </p:sp>
      <p:sp>
        <p:nvSpPr>
          <p:cNvPr id="201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7" name=""/>
          <p:cNvSpPr txBox="1"/>
          <p:nvPr/>
        </p:nvSpPr>
        <p:spPr>
          <a:xfrm>
            <a:off x="457200" y="1760040"/>
            <a:ext cx="8229600" cy="4526280"/>
          </a:xfrm>
          <a:prstGeom prst="rect">
            <a:avLst/>
          </a:prstGeom>
          <a:noFill/>
          <a:ln w="0">
            <a:noFill/>
          </a:ln>
        </p:spPr>
        <p:txBody>
          <a:bodyPr anchor="t">
            <a:normAutofit/>
          </a:bodyPr>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ord the practice session.</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 through the sentence outline once or twice to refresh your memory.</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 the practice as similar to the public speaking situation as possible.</a:t>
            </a:r>
            <a:endParaRPr b="0" lang="en-US" sz="3600" spc="-1" strike="noStrike">
              <a:solidFill>
                <a:srgbClr val="000000"/>
              </a:solidFill>
              <a:latin typeface="Arial"/>
            </a:endParaRPr>
          </a:p>
        </p:txBody>
      </p:sp>
      <p:sp>
        <p:nvSpPr>
          <p:cNvPr id="201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5</a:t>
            </a:r>
            <a:endParaRPr b="0" lang="en-US" sz="1600" spc="-1" strike="noStrike">
              <a:solidFill>
                <a:srgbClr val="000000"/>
              </a:solidFill>
              <a:latin typeface="Arial"/>
            </a:endParaRPr>
          </a:p>
        </p:txBody>
      </p:sp>
      <p:sp>
        <p:nvSpPr>
          <p:cNvPr id="2019"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First Practi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0" name=""/>
          <p:cNvSpPr txBox="1"/>
          <p:nvPr/>
        </p:nvSpPr>
        <p:spPr>
          <a:xfrm>
            <a:off x="457200" y="1774800"/>
            <a:ext cx="8229600" cy="4525920"/>
          </a:xfrm>
          <a:prstGeom prst="rect">
            <a:avLst/>
          </a:prstGeom>
          <a:noFill/>
          <a:ln w="0">
            <a:noFill/>
          </a:ln>
        </p:spPr>
        <p:txBody>
          <a:bodyPr anchor="t">
            <a:normAutofit/>
          </a:bodyPr>
          <a:p>
            <a:pPr marL="609480" indent="-6094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e down the time you begin.</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gin speaking.</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e down the time you finish.</a:t>
            </a:r>
            <a:endParaRPr b="0" lang="en-US" sz="4000" spc="-1" strike="noStrike">
              <a:solidFill>
                <a:srgbClr val="000000"/>
              </a:solidFill>
              <a:latin typeface="Arial"/>
            </a:endParaRPr>
          </a:p>
        </p:txBody>
      </p:sp>
      <p:sp>
        <p:nvSpPr>
          <p:cNvPr id="2021"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First Practice</a:t>
            </a:r>
            <a:endParaRPr b="0" lang="en-US" sz="5400" spc="-1" strike="noStrike">
              <a:solidFill>
                <a:srgbClr val="000000"/>
              </a:solidFill>
              <a:latin typeface="Arial"/>
            </a:endParaRPr>
          </a:p>
        </p:txBody>
      </p:sp>
      <p:sp>
        <p:nvSpPr>
          <p:cNvPr id="2022"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3" name=""/>
          <p:cNvSpPr txBox="1"/>
          <p:nvPr/>
        </p:nvSpPr>
        <p:spPr>
          <a:xfrm>
            <a:off x="457200" y="17748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tch and listen to your recorded performance while reviewing your complete outlin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n immediately repeat the six steps listed for the first practic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practice sessions will also </a:t>
            </a:r>
            <a:br>
              <a:rPr sz="3600"/>
            </a:br>
            <a:r>
              <a:rPr b="0" lang="en-US" sz="3600" spc="-1" strike="noStrike">
                <a:solidFill>
                  <a:srgbClr val="000000"/>
                </a:solidFill>
                <a:latin typeface="Arial"/>
              </a:rPr>
              <a:t>likely be helpful.</a:t>
            </a:r>
            <a:endParaRPr b="0" lang="en-US" sz="3600" spc="-1" strike="noStrike">
              <a:solidFill>
                <a:srgbClr val="000000"/>
              </a:solidFill>
              <a:latin typeface="Arial"/>
            </a:endParaRPr>
          </a:p>
        </p:txBody>
      </p:sp>
      <p:sp>
        <p:nvSpPr>
          <p:cNvPr id="2024"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alysis and</a:t>
            </a:r>
            <a:br>
              <a:rPr sz="4000"/>
            </a:br>
            <a:r>
              <a:rPr b="1" lang="en-US" sz="4000" spc="-1" strike="noStrike">
                <a:solidFill>
                  <a:srgbClr val="000000"/>
                </a:solidFill>
                <a:latin typeface="Arial"/>
              </a:rPr>
              <a:t>Additional Practice</a:t>
            </a:r>
            <a:endParaRPr b="0" lang="en-US" sz="4000" spc="-1" strike="noStrike">
              <a:solidFill>
                <a:srgbClr val="000000"/>
              </a:solidFill>
              <a:latin typeface="Arial"/>
            </a:endParaRPr>
          </a:p>
        </p:txBody>
      </p:sp>
      <p:sp>
        <p:nvSpPr>
          <p:cNvPr id="202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1974" name="PlaceHolder 2"/>
          <p:cNvSpPr>
            <a:spLocks noGrp="1"/>
          </p:cNvSpPr>
          <p:nvPr>
            <p:ph type="subTitle"/>
          </p:nvPr>
        </p:nvSpPr>
        <p:spPr>
          <a:xfrm>
            <a:off x="595440" y="1668600"/>
            <a:ext cx="7967520" cy="4906800"/>
          </a:xfrm>
          <a:prstGeom prst="rect">
            <a:avLst/>
          </a:prstGeom>
          <a:noFill/>
          <a:ln w="0">
            <a:noFill/>
          </a:ln>
        </p:spPr>
        <p:txBody>
          <a:bodyPr anchor="t">
            <a:noAutofit/>
          </a:bodyPr>
          <a:p>
            <a:pPr marL="79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1-1</a:t>
            </a:r>
            <a:r>
              <a:rPr b="0" lang="en-US" sz="2400" spc="-1" strike="noStrike">
                <a:solidFill>
                  <a:srgbClr val="000000"/>
                </a:solidFill>
                <a:latin typeface="Arial"/>
              </a:rPr>
              <a:t>  Describe the characteristics of effective delivery.</a:t>
            </a:r>
            <a:endParaRPr b="0" lang="en-US" sz="2400" spc="-1" strike="noStrike">
              <a:solidFill>
                <a:srgbClr val="000000"/>
              </a:solidFill>
              <a:latin typeface="Arial"/>
            </a:endParaRPr>
          </a:p>
          <a:p>
            <a:pPr marL="79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1-2</a:t>
            </a:r>
            <a:r>
              <a:rPr b="0" lang="en-US" sz="2400" spc="-1" strike="noStrike">
                <a:solidFill>
                  <a:srgbClr val="000000"/>
                </a:solidFill>
                <a:latin typeface="Arial"/>
              </a:rPr>
              <a:t>  Use your voice effectively as you deliver your speech.</a:t>
            </a:r>
            <a:endParaRPr b="0" lang="en-US" sz="2400" spc="-1" strike="noStrike">
              <a:solidFill>
                <a:srgbClr val="000000"/>
              </a:solidFill>
              <a:latin typeface="Arial"/>
            </a:endParaRPr>
          </a:p>
          <a:p>
            <a:pPr marL="79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1-3</a:t>
            </a:r>
            <a:r>
              <a:rPr b="0" lang="en-US" sz="2400" spc="-1" strike="noStrike">
                <a:solidFill>
                  <a:srgbClr val="000000"/>
                </a:solidFill>
                <a:latin typeface="Arial"/>
              </a:rPr>
              <a:t>  Use your body effectively as you deliver your speech.</a:t>
            </a:r>
            <a:endParaRPr b="0" lang="en-US" sz="2400" spc="-1" strike="noStrike">
              <a:solidFill>
                <a:srgbClr val="000000"/>
              </a:solidFill>
              <a:latin typeface="Arial"/>
            </a:endParaRPr>
          </a:p>
          <a:p>
            <a:pPr marL="79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1-4</a:t>
            </a:r>
            <a:r>
              <a:rPr b="0" lang="en-US" sz="2400" spc="-1" strike="noStrike">
                <a:solidFill>
                  <a:srgbClr val="000000"/>
                </a:solidFill>
                <a:latin typeface="Arial"/>
              </a:rPr>
              <a:t>  Understand the different speech delivery methods.</a:t>
            </a:r>
            <a:endParaRPr b="0" lang="en-US" sz="2400" spc="-1" strike="noStrike">
              <a:solidFill>
                <a:srgbClr val="000000"/>
              </a:solidFill>
              <a:latin typeface="Arial"/>
            </a:endParaRPr>
          </a:p>
          <a:p>
            <a:pPr marL="79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1-5</a:t>
            </a:r>
            <a:r>
              <a:rPr b="0" lang="en-US" sz="2400" spc="-1" strike="noStrike">
                <a:solidFill>
                  <a:srgbClr val="000000"/>
                </a:solidFill>
                <a:latin typeface="Arial"/>
              </a:rPr>
              <a:t>  Engage in effective speech rehearsals.</a:t>
            </a:r>
            <a:endParaRPr b="0" lang="en-US" sz="2400" spc="-1" strike="noStrike">
              <a:solidFill>
                <a:srgbClr val="000000"/>
              </a:solidFill>
              <a:latin typeface="Arial"/>
            </a:endParaRPr>
          </a:p>
          <a:p>
            <a:pPr marL="79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1-6</a:t>
            </a:r>
            <a:r>
              <a:rPr b="0" lang="en-US" sz="2400" spc="-1" strike="noStrike">
                <a:solidFill>
                  <a:srgbClr val="000000"/>
                </a:solidFill>
                <a:latin typeface="Arial"/>
              </a:rPr>
              <a:t>  Adapt delivery appropriately while presenting your speech.</a:t>
            </a:r>
            <a:endParaRPr b="0" lang="en-US" sz="2400" spc="-1" strike="noStrike">
              <a:solidFill>
                <a:srgbClr val="000000"/>
              </a:solidFill>
              <a:latin typeface="Arial"/>
            </a:endParaRPr>
          </a:p>
          <a:p>
            <a:pPr marL="79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1-7</a:t>
            </a:r>
            <a:r>
              <a:rPr b="0" lang="en-US" sz="2400" spc="-1" strike="noStrike">
                <a:solidFill>
                  <a:srgbClr val="000000"/>
                </a:solidFill>
                <a:latin typeface="Arial"/>
              </a:rPr>
              <a:t>  Adapt your speech and delivery for virtual audi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6" name=""/>
          <p:cNvSpPr txBox="1"/>
          <p:nvPr/>
        </p:nvSpPr>
        <p:spPr>
          <a:xfrm>
            <a:off x="457200" y="1716120"/>
            <a:ext cx="8229600" cy="4525920"/>
          </a:xfrm>
          <a:prstGeom prst="rect">
            <a:avLst/>
          </a:prstGeom>
          <a:noFill/>
          <a:ln w="0">
            <a:noFill/>
          </a:ln>
        </p:spPr>
        <p:txBody>
          <a:bodyPr anchor="t">
            <a:normAutofit/>
          </a:bodyPr>
          <a:p>
            <a:pPr marL="514440" indent="-5144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 aware of and respond to audience feedback.</a:t>
            </a:r>
            <a:endParaRPr b="0" lang="en-US" sz="4000" spc="-1" strike="noStrike">
              <a:solidFill>
                <a:srgbClr val="000000"/>
              </a:solidFill>
              <a:latin typeface="Arial"/>
            </a:endParaRPr>
          </a:p>
          <a:p>
            <a:pPr marL="514440" indent="-5144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 prepared to use alternative developmental material.</a:t>
            </a:r>
            <a:endParaRPr b="0" lang="en-US" sz="4000" spc="-1" strike="noStrike">
              <a:solidFill>
                <a:srgbClr val="000000"/>
              </a:solidFill>
              <a:latin typeface="Arial"/>
            </a:endParaRPr>
          </a:p>
          <a:p>
            <a:pPr marL="514440" indent="-5144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rrect yourself when you misspeak.</a:t>
            </a:r>
            <a:endParaRPr b="0" lang="en-US" sz="4000" spc="-1" strike="noStrike">
              <a:solidFill>
                <a:srgbClr val="000000"/>
              </a:solidFill>
              <a:latin typeface="Arial"/>
            </a:endParaRPr>
          </a:p>
        </p:txBody>
      </p:sp>
      <p:sp>
        <p:nvSpPr>
          <p:cNvPr id="2027"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6</a:t>
            </a:r>
            <a:endParaRPr b="0" lang="en-US" sz="1600" spc="-1" strike="noStrike">
              <a:solidFill>
                <a:srgbClr val="000000"/>
              </a:solidFill>
              <a:latin typeface="Arial"/>
            </a:endParaRPr>
          </a:p>
        </p:txBody>
      </p:sp>
      <p:sp>
        <p:nvSpPr>
          <p:cNvPr id="2028"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apting to Listeners as You Speak: The Rhetorical Situ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9" name=""/>
          <p:cNvSpPr txBox="1"/>
          <p:nvPr/>
        </p:nvSpPr>
        <p:spPr>
          <a:xfrm>
            <a:off x="457200" y="1716120"/>
            <a:ext cx="8229600" cy="4525920"/>
          </a:xfrm>
          <a:prstGeom prst="rect">
            <a:avLst/>
          </a:prstGeom>
          <a:noFill/>
          <a:ln w="0">
            <a:noFill/>
          </a:ln>
        </p:spPr>
        <p:txBody>
          <a:bodyPr anchor="t">
            <a:normAutofit/>
          </a:bodyPr>
          <a:p>
            <a:pPr marL="609480" indent="-6094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apt to unexpected events.</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apt to unexpected audience reactions.</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ndle questions respectfully.</a:t>
            </a:r>
            <a:endParaRPr b="0" lang="en-US" sz="4000" spc="-1" strike="noStrike">
              <a:solidFill>
                <a:srgbClr val="000000"/>
              </a:solidFill>
              <a:latin typeface="Arial"/>
            </a:endParaRPr>
          </a:p>
        </p:txBody>
      </p:sp>
      <p:sp>
        <p:nvSpPr>
          <p:cNvPr id="2030"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apting to Listeners as You Speak: The Rhetorical Situation</a:t>
            </a:r>
            <a:endParaRPr b="0" lang="en-US" sz="3600" spc="-1" strike="noStrike">
              <a:solidFill>
                <a:srgbClr val="000000"/>
              </a:solidFill>
              <a:latin typeface="Arial"/>
            </a:endParaRPr>
          </a:p>
        </p:txBody>
      </p:sp>
      <p:sp>
        <p:nvSpPr>
          <p:cNvPr id="203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2" name=""/>
          <p:cNvSpPr txBox="1"/>
          <p:nvPr/>
        </p:nvSpPr>
        <p:spPr>
          <a:xfrm>
            <a:off x="457200" y="1716120"/>
            <a:ext cx="8229600" cy="4525920"/>
          </a:xfrm>
          <a:prstGeom prst="rect">
            <a:avLst/>
          </a:prstGeom>
          <a:noFill/>
          <a:ln w="0">
            <a:noFill/>
          </a:ln>
        </p:spPr>
        <p:txBody>
          <a:bodyPr anchor="t">
            <a:normAutofit/>
          </a:bodyPr>
          <a:p>
            <a:pPr marL="743040" indent="-7430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 your speech to address multiple audiences. </a:t>
            </a:r>
            <a:endParaRPr b="0" lang="en-US" sz="3200" spc="-1" strike="noStrike">
              <a:solidFill>
                <a:srgbClr val="000000"/>
              </a:solidFill>
              <a:latin typeface="Arial"/>
            </a:endParaRPr>
          </a:p>
          <a:p>
            <a:pPr marL="743040" indent="-7430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 your speech to account for unintended audiences. </a:t>
            </a:r>
            <a:endParaRPr b="0" lang="en-US" sz="3200" spc="-1" strike="noStrike">
              <a:solidFill>
                <a:srgbClr val="000000"/>
              </a:solidFill>
              <a:latin typeface="Arial"/>
            </a:endParaRPr>
          </a:p>
          <a:p>
            <a:pPr marL="743040" indent="-7430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presentational aids carefully. </a:t>
            </a:r>
            <a:endParaRPr b="0" lang="en-US" sz="3200" spc="-1" strike="noStrike">
              <a:solidFill>
                <a:srgbClr val="000000"/>
              </a:solidFill>
              <a:latin typeface="Arial"/>
            </a:endParaRPr>
          </a:p>
          <a:p>
            <a:pPr marL="743040" indent="-7430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 proficient with technology. </a:t>
            </a:r>
            <a:endParaRPr b="0" lang="en-US" sz="3200" spc="-1" strike="noStrike">
              <a:solidFill>
                <a:srgbClr val="000000"/>
              </a:solidFill>
              <a:latin typeface="Arial"/>
            </a:endParaRPr>
          </a:p>
          <a:p>
            <a:pPr marL="743040" indent="-7430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 the fundamentals of effective public speaking.</a:t>
            </a:r>
            <a:endParaRPr b="0" lang="en-US" sz="3200" spc="-1" strike="noStrike">
              <a:solidFill>
                <a:srgbClr val="000000"/>
              </a:solidFill>
              <a:latin typeface="Arial"/>
            </a:endParaRPr>
          </a:p>
        </p:txBody>
      </p:sp>
      <p:sp>
        <p:nvSpPr>
          <p:cNvPr id="2033"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apting Your Speech</a:t>
            </a:r>
            <a:br>
              <a:rPr sz="3600"/>
            </a:br>
            <a:r>
              <a:rPr b="1" lang="en-US" sz="3600" spc="-1" strike="noStrike">
                <a:solidFill>
                  <a:srgbClr val="000000"/>
                </a:solidFill>
                <a:latin typeface="Arial"/>
              </a:rPr>
              <a:t>for a Virtual Audience</a:t>
            </a:r>
            <a:endParaRPr b="0" lang="en-US" sz="3600" spc="-1" strike="noStrike">
              <a:solidFill>
                <a:srgbClr val="000000"/>
              </a:solidFill>
              <a:latin typeface="Arial"/>
            </a:endParaRPr>
          </a:p>
        </p:txBody>
      </p:sp>
      <p:sp>
        <p:nvSpPr>
          <p:cNvPr id="2034"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0" y="-360"/>
            <a:ext cx="9144000" cy="130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Arial"/>
              </a:rPr>
              <a:t>Action</a:t>
            </a:r>
            <a:endParaRPr b="0" lang="en-US" sz="7200" spc="-1" strike="noStrike">
              <a:solidFill>
                <a:srgbClr val="000000"/>
              </a:solidFill>
              <a:latin typeface="Arial"/>
            </a:endParaRPr>
          </a:p>
        </p:txBody>
      </p:sp>
      <p:sp>
        <p:nvSpPr>
          <p:cNvPr id="1976" name=""/>
          <p:cNvSpPr txBox="1"/>
          <p:nvPr/>
        </p:nvSpPr>
        <p:spPr>
          <a:xfrm>
            <a:off x="457200" y="183204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actice oral language and delivery style.</a:t>
            </a:r>
            <a:endParaRPr b="0" lang="en-US" sz="4000" spc="-1" strike="noStrike">
              <a:solidFill>
                <a:srgbClr val="000000"/>
              </a:solidFill>
              <a:latin typeface="Arial"/>
            </a:endParaRPr>
          </a:p>
          <a:p>
            <a:pPr lvl="1" marL="914400" indent="-514440">
              <a:spcBef>
                <a:spcPts val="700"/>
              </a:spcBef>
              <a:buClr>
                <a:srgbClr val="000000"/>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until the delivery is conversational, intelligible, and expressive.</a:t>
            </a:r>
            <a:endParaRPr b="0" lang="en-US" sz="2800" spc="-1" strike="noStrike">
              <a:solidFill>
                <a:srgbClr val="000000"/>
              </a:solidFill>
              <a:latin typeface="Arial"/>
            </a:endParaRPr>
          </a:p>
          <a:p>
            <a:pPr lvl="1" marL="914400" indent="-514440">
              <a:spcBef>
                <a:spcPts val="700"/>
              </a:spcBef>
              <a:buClr>
                <a:srgbClr val="000000"/>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integrating presentational aids until you can do so smoothly and confidently.</a:t>
            </a:r>
            <a:endParaRPr b="0" lang="en-US" sz="2800" spc="-1" strike="noStrike">
              <a:solidFill>
                <a:srgbClr val="000000"/>
              </a:solidFill>
              <a:latin typeface="Arial"/>
            </a:endParaRPr>
          </a:p>
          <a:p>
            <a:pPr lvl="1" marL="914400" indent="-514440">
              <a:spcBef>
                <a:spcPts val="700"/>
              </a:spcBef>
              <a:buClr>
                <a:srgbClr val="000000"/>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until you can deliver your speech extemporaneously within the time lim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7" name=""/>
          <p:cNvSpPr txBox="1"/>
          <p:nvPr/>
        </p:nvSpPr>
        <p:spPr>
          <a:xfrm>
            <a:off x="457200" y="17748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Delivery</a:t>
            </a:r>
            <a:r>
              <a:rPr b="0" lang="en-US" sz="3600" spc="-1" strike="noStrike">
                <a:solidFill>
                  <a:srgbClr val="000000"/>
                </a:solidFill>
                <a:latin typeface="Arial"/>
              </a:rPr>
              <a:t> is how a message is communicated orally and visually through your use of voice and bod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delivery style is communicated through your </a:t>
            </a:r>
            <a:r>
              <a:rPr b="0" i="1" lang="en-US" sz="3600" spc="-1" strike="noStrike">
                <a:solidFill>
                  <a:srgbClr val="000000"/>
                </a:solidFill>
                <a:latin typeface="Arial"/>
              </a:rPr>
              <a:t>nonverbal communication</a:t>
            </a:r>
            <a:r>
              <a:rPr b="0" lang="en-US" sz="3600" spc="-1" strike="noStrike">
                <a:solidFill>
                  <a:srgbClr val="000000"/>
                </a:solidFill>
                <a:latin typeface="Arial"/>
              </a:rPr>
              <a:t> (all speech elements other than the words themselves).</a:t>
            </a:r>
            <a:endParaRPr b="0" lang="en-US" sz="3600" spc="-1" strike="noStrike">
              <a:solidFill>
                <a:srgbClr val="000000"/>
              </a:solidFill>
              <a:latin typeface="Arial"/>
            </a:endParaRPr>
          </a:p>
        </p:txBody>
      </p:sp>
      <p:sp>
        <p:nvSpPr>
          <p:cNvPr id="1978"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elivery</a:t>
            </a:r>
            <a:endParaRPr b="0" lang="en-US" sz="5400" spc="-1" strike="noStrike">
              <a:solidFill>
                <a:srgbClr val="000000"/>
              </a:solidFill>
              <a:latin typeface="Arial"/>
            </a:endParaRPr>
          </a:p>
        </p:txBody>
      </p:sp>
      <p:sp>
        <p:nvSpPr>
          <p:cNvPr id="197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0" name=""/>
          <p:cNvSpPr txBox="1"/>
          <p:nvPr/>
        </p:nvSpPr>
        <p:spPr>
          <a:xfrm>
            <a:off x="457200" y="171612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a conversational style, meaning that you sound spontaneous (natural) and relaxe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 animated—lively, energetic and enthusiastic.</a:t>
            </a:r>
            <a:endParaRPr b="0" lang="en-US" sz="4000" spc="-1" strike="noStrike">
              <a:solidFill>
                <a:srgbClr val="000000"/>
              </a:solidFill>
              <a:latin typeface="Arial"/>
            </a:endParaRPr>
          </a:p>
        </p:txBody>
      </p:sp>
      <p:sp>
        <p:nvSpPr>
          <p:cNvPr id="198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1</a:t>
            </a:r>
            <a:endParaRPr b="0" lang="en-US" sz="1600" spc="-1" strike="noStrike">
              <a:solidFill>
                <a:srgbClr val="000000"/>
              </a:solidFill>
              <a:latin typeface="Arial"/>
            </a:endParaRPr>
          </a:p>
        </p:txBody>
      </p:sp>
      <p:sp>
        <p:nvSpPr>
          <p:cNvPr id="1982"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racteristics of an</a:t>
            </a:r>
            <a:br>
              <a:rPr sz="3600"/>
            </a:br>
            <a:r>
              <a:rPr b="1" lang="en-US" sz="3600" spc="-1" strike="noStrike">
                <a:solidFill>
                  <a:srgbClr val="000000"/>
                </a:solidFill>
                <a:latin typeface="Arial"/>
              </a:rPr>
              <a:t>Effective Delivery Sty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3" name=""/>
          <p:cNvSpPr txBox="1"/>
          <p:nvPr/>
        </p:nvSpPr>
        <p:spPr>
          <a:xfrm>
            <a:off x="457200" y="1716120"/>
            <a:ext cx="8229600" cy="4525920"/>
          </a:xfrm>
          <a:prstGeom prst="rect">
            <a:avLst/>
          </a:prstGeom>
          <a:noFill/>
          <a:ln w="0">
            <a:noFill/>
          </a:ln>
        </p:spPr>
        <p:txBody>
          <a:bodyPr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ary vocal characteristics (pitch, volume, rate, qualit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ak intelligibly. Use proper articulation, pronunciation, and accent.</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vocal expressiveness. Avoid monotone. Use stresses and pauses effectively.</a:t>
            </a:r>
            <a:endParaRPr b="0" lang="en-US" sz="3600" spc="-1" strike="noStrike">
              <a:solidFill>
                <a:srgbClr val="000000"/>
              </a:solidFill>
              <a:latin typeface="Arial"/>
            </a:endParaRPr>
          </a:p>
        </p:txBody>
      </p:sp>
      <p:sp>
        <p:nvSpPr>
          <p:cNvPr id="1984"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ffective Use of Voice</a:t>
            </a:r>
            <a:endParaRPr b="0" lang="en-US" sz="4800" spc="-1" strike="noStrike">
              <a:solidFill>
                <a:srgbClr val="000000"/>
              </a:solidFill>
              <a:latin typeface="Arial"/>
            </a:endParaRPr>
          </a:p>
        </p:txBody>
      </p:sp>
      <p:sp>
        <p:nvSpPr>
          <p:cNvPr id="198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6"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Words Commonly Mispronounced</a:t>
            </a:r>
            <a:endParaRPr b="0" lang="en-US" sz="4000" spc="-1" strike="noStrike">
              <a:solidFill>
                <a:srgbClr val="000000"/>
              </a:solidFill>
              <a:latin typeface="Arial"/>
            </a:endParaRPr>
          </a:p>
        </p:txBody>
      </p:sp>
      <p:pic>
        <p:nvPicPr>
          <p:cNvPr id="1988" name="Picture 6" descr=""/>
          <p:cNvPicPr/>
          <p:nvPr/>
        </p:nvPicPr>
        <p:blipFill>
          <a:blip r:embed="rId2"/>
          <a:stretch/>
        </p:blipFill>
        <p:spPr>
          <a:xfrm>
            <a:off x="2438280" y="2411280"/>
            <a:ext cx="3942000" cy="426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9" name=""/>
          <p:cNvSpPr txBox="1"/>
          <p:nvPr/>
        </p:nvSpPr>
        <p:spPr>
          <a:xfrm>
            <a:off x="457200" y="1760040"/>
            <a:ext cx="8229600" cy="452628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 an appropriate appearance.</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good posture.</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actice poise.</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tain eye contact.</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appropriate facial expressions.</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gestures correctly.</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gage in motivated movement.</a:t>
            </a:r>
            <a:endParaRPr b="0" lang="en-US" sz="3600" spc="-1" strike="noStrike">
              <a:solidFill>
                <a:srgbClr val="000000"/>
              </a:solidFill>
              <a:latin typeface="Arial"/>
            </a:endParaRPr>
          </a:p>
        </p:txBody>
      </p:sp>
      <p:sp>
        <p:nvSpPr>
          <p:cNvPr id="1990"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11-3</a:t>
            </a:r>
            <a:endParaRPr b="0" lang="en-US" sz="1600" spc="-1" strike="noStrike">
              <a:solidFill>
                <a:srgbClr val="000000"/>
              </a:solidFill>
              <a:latin typeface="Arial"/>
            </a:endParaRPr>
          </a:p>
        </p:txBody>
      </p:sp>
      <p:sp>
        <p:nvSpPr>
          <p:cNvPr id="1991"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ffective Use of Bod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2"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Common Hand Gestures Used by Speakers</a:t>
            </a:r>
            <a:endParaRPr b="0" lang="en-US" sz="4000" spc="-1" strike="noStrike">
              <a:solidFill>
                <a:srgbClr val="000000"/>
              </a:solidFill>
              <a:latin typeface="Arial"/>
            </a:endParaRPr>
          </a:p>
        </p:txBody>
      </p:sp>
      <p:pic>
        <p:nvPicPr>
          <p:cNvPr id="1994" name="Picture 6" descr=""/>
          <p:cNvPicPr/>
          <p:nvPr/>
        </p:nvPicPr>
        <p:blipFill>
          <a:blip r:embed="rId2"/>
          <a:stretch/>
        </p:blipFill>
        <p:spPr>
          <a:xfrm>
            <a:off x="557280" y="2314440"/>
            <a:ext cx="4014720" cy="4559400"/>
          </a:xfrm>
          <a:prstGeom prst="rect">
            <a:avLst/>
          </a:prstGeom>
          <a:ln w="0">
            <a:noFill/>
          </a:ln>
        </p:spPr>
      </p:pic>
      <p:pic>
        <p:nvPicPr>
          <p:cNvPr id="1995" name="Picture 7" descr=""/>
          <p:cNvPicPr/>
          <p:nvPr/>
        </p:nvPicPr>
        <p:blipFill>
          <a:blip r:embed="rId3"/>
          <a:stretch/>
        </p:blipFill>
        <p:spPr>
          <a:xfrm>
            <a:off x="4765680" y="2314440"/>
            <a:ext cx="4146480" cy="301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GINA WEERS</cp:lastModifiedBy>
  <dcterms:modified xsi:type="dcterms:W3CDTF">2016-03-14T06:54:46Z</dcterms:modified>
  <cp:revision>357</cp:revision>
  <dc:subject/>
  <dc:title>Chapter One</dc:title>
</cp:coreProperties>
</file>